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8F5C-4D21-4E6F-AB74-F84AA012A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7D2A-785B-43B3-838C-ECAF1330E9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DADE-4738-4F52-9359-0A64D2FA976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0AE-DEC2-46BC-9D71-0ED504FF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2D2-B690-4506-9B40-FBEDA824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8E4-197A-4BF9-A92F-E92CAE6B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CE4-BB11-414F-B327-95A8D623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F20-C73D-4A9B-ADBE-E538CC55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48C-9734-44B5-A861-DAB673C1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D83-9B07-4104-9E52-8222BA09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BC5-1929-4D50-A156-090E6BA1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84E-FA71-4D3D-AF29-07D98D0F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359-78E3-4EB2-9949-6326C8F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C28-6EB3-441A-9480-CD85B7CF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55A-6102-49B8-815A-5B70FE03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8DCB-248D-47B6-9ECC-55943CCE72CF}" type="slidenum"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52" name="Rectangle 6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9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101" name="Rectangle 17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102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16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665000" cy="163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685520" y="928800"/>
            <a:ext cx="564588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ОВ НОВІ ЗН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роект КУРС: Осві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71680" y="27860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вчальний посіб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143080" y="409896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емінар №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Новая папка\23.JPG"/>
          <p:cNvPicPr/>
          <p:nvPr/>
        </p:nvPicPr>
        <p:blipFill>
          <a:blip r:embed="rId2"/>
          <a:srcRect l="0" t="10418" r="0" b="0"/>
          <a:stretch/>
        </p:blipFill>
        <p:spPr>
          <a:xfrm>
            <a:off x="1357200" y="1643040"/>
            <a:ext cx="6361200" cy="3071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2"/>
          <p:cNvSpPr/>
          <p:nvPr/>
        </p:nvSpPr>
        <p:spPr>
          <a:xfrm>
            <a:off x="571680" y="5143680"/>
            <a:ext cx="828648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бравши одного учня можливо ввести йому Пароль та заповнити його персональні да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005360" y="0"/>
            <a:ext cx="463860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Генерація логі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а паро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Новая папка\15.JPG"/>
          <p:cNvPicPr/>
          <p:nvPr/>
        </p:nvPicPr>
        <p:blipFill>
          <a:blip r:embed="rId2"/>
          <a:srcRect l="0" t="10375" r="0" b="0"/>
          <a:stretch/>
        </p:blipFill>
        <p:spPr>
          <a:xfrm>
            <a:off x="928800" y="1643040"/>
            <a:ext cx="7392960" cy="35719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1285920" y="5364000"/>
            <a:ext cx="642924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еобхідно ввести номер школи в системі або її назву та натиснути “Далі”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2879280" y="0"/>
            <a:ext cx="5953680" cy="1190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гляд інформації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ля г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9" descr="C:\Users\Veter\Desktop\Безымянный.png"/>
          <p:cNvPicPr/>
          <p:nvPr/>
        </p:nvPicPr>
        <p:blipFill>
          <a:blip r:embed="rId1"/>
          <a:stretch/>
        </p:blipFill>
        <p:spPr>
          <a:xfrm>
            <a:off x="214200" y="1571760"/>
            <a:ext cx="2406600" cy="354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642960" y="5572080"/>
            <a:ext cx="792972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Будь який користувач може вибрати необхідний йому клас та подивитися “Розклад” цього кла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2879280" y="0"/>
            <a:ext cx="5953680" cy="1190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гляд інформації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ля г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8" descr="C:\Users\Veter\Desktop\Безымянный.png"/>
          <p:cNvPicPr/>
          <p:nvPr/>
        </p:nvPicPr>
        <p:blipFill>
          <a:blip r:embed="rId3"/>
          <a:stretch/>
        </p:blipFill>
        <p:spPr>
          <a:xfrm>
            <a:off x="2571840" y="1714680"/>
            <a:ext cx="6500880" cy="37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879280" y="0"/>
            <a:ext cx="5953680" cy="1190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гляд інформації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ля вчите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6"/>
          <p:cNvSpPr/>
          <p:nvPr/>
        </p:nvSpPr>
        <p:spPr>
          <a:xfrm>
            <a:off x="395280" y="5516640"/>
            <a:ext cx="8280360" cy="10087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читель, зайшовши під своїм  логіном та ввівши пароль, може подивитися новини школи, новини для вчителів, а якщо він класний керівник, то може подивитися і новини свого клас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6" descr="C:\Users\Veter\Desktop\1.png"/>
          <p:cNvPicPr/>
          <p:nvPr/>
        </p:nvPicPr>
        <p:blipFill>
          <a:blip r:embed="rId2"/>
          <a:stretch/>
        </p:blipFill>
        <p:spPr>
          <a:xfrm>
            <a:off x="857160" y="1571760"/>
            <a:ext cx="7351920" cy="38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2879280" y="0"/>
            <a:ext cx="5953680" cy="1190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гляд інформації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ля вчител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4200" y="4214880"/>
            <a:ext cx="3565800" cy="16185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йшовши в закладку Журнал для даного класу і обравши предмет можна створити урок, або вибрати уже існуюч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C:\Users\Veter\Desktop\2.png"/>
          <p:cNvPicPr/>
          <p:nvPr/>
        </p:nvPicPr>
        <p:blipFill>
          <a:blip r:embed="rId2"/>
          <a:stretch/>
        </p:blipFill>
        <p:spPr>
          <a:xfrm>
            <a:off x="250920" y="1700280"/>
            <a:ext cx="4572000" cy="2400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Users\Veter\Desktop\3.png"/>
          <p:cNvPicPr/>
          <p:nvPr/>
        </p:nvPicPr>
        <p:blipFill>
          <a:blip r:embed="rId3"/>
          <a:stretch/>
        </p:blipFill>
        <p:spPr>
          <a:xfrm>
            <a:off x="4067280" y="2349360"/>
            <a:ext cx="4667040" cy="24289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3924360" y="4869000"/>
            <a:ext cx="5040360" cy="19234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Вибравши клас та предмет який в ньому читається, можемо редагувати сторінку журналу, вибравши відповідне поле та клацнути на ньому правою кнопкою миші можна ставити оцінки або інші відмі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2879280" y="0"/>
            <a:ext cx="5953680" cy="1190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Перегляд інформації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ля учнів та батькі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C:\Новая папка\24.JPG"/>
          <p:cNvPicPr/>
          <p:nvPr/>
        </p:nvPicPr>
        <p:blipFill>
          <a:blip r:embed="rId2"/>
          <a:srcRect l="0" t="12122" r="0" b="0"/>
          <a:stretch/>
        </p:blipFill>
        <p:spPr>
          <a:xfrm>
            <a:off x="214200" y="1643040"/>
            <a:ext cx="4373640" cy="20718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2857680" y="2428920"/>
            <a:ext cx="4049640" cy="2130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4"/>
          <a:stretch/>
        </p:blipFill>
        <p:spPr>
          <a:xfrm>
            <a:off x="5081760" y="3714840"/>
            <a:ext cx="4062240" cy="2141280"/>
          </a:xfrm>
          <a:prstGeom prst="rect">
            <a:avLst/>
          </a:prstGeom>
          <a:ln w="0">
            <a:noFill/>
          </a:ln>
        </p:spPr>
      </p:pic>
      <p:sp>
        <p:nvSpPr>
          <p:cNvPr id="240" name="TextBox 8"/>
          <p:cNvSpPr/>
          <p:nvPr/>
        </p:nvSpPr>
        <p:spPr>
          <a:xfrm>
            <a:off x="357120" y="4714920"/>
            <a:ext cx="4572000" cy="19234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Авторизувавшись на порталі учень та його батьки можуть ознайомитися з новинами школи та класу, подивитися розклад, журнал оцінок, свій щоденник з оцінками та домашнім завдан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428760" y="1928880"/>
            <a:ext cx="8501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екомендовані термін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дні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онтроль:  На порталі можна побачити розклад. Створені логіни та парол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578592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Дякуємо за співпрацю!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5"/>
          <p:cNvSpPr/>
          <p:nvPr/>
        </p:nvSpPr>
        <p:spPr>
          <a:xfrm>
            <a:off x="1214280" y="15717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ТОВ НОВІ ЗН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857240" y="2428920"/>
            <a:ext cx="5214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хнічна підтрим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: +38 (057) 777-02-7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б:+38(050) 203-44-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97) 678-76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63) 590-35-0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-mail:  info@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yr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642960" y="3571920"/>
            <a:ext cx="1508040" cy="167004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0" descr="RK.jpg"/>
          <p:cNvPicPr/>
          <p:nvPr/>
        </p:nvPicPr>
        <p:blipFill>
          <a:blip r:embed="rId3"/>
          <a:stretch/>
        </p:blipFill>
        <p:spPr>
          <a:xfrm>
            <a:off x="6735600" y="3571920"/>
            <a:ext cx="2194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85880" y="171468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5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Робота з порталом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Мої знання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cd5b5"/>
                </a:solidFill>
                <a:latin typeface="Arial"/>
              </a:rPr>
              <a:t>www.mz.com.u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428760" y="3357720"/>
            <a:ext cx="86439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лаштування журналу  в КУРС: Школ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вантаження даних на порт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енерація логінів та парол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гляд інформації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для г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для вчител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для учнів та батькі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U:\Фищук В. О\Новая папка\654865.JPG"/>
          <p:cNvPicPr/>
          <p:nvPr/>
        </p:nvPicPr>
        <p:blipFill>
          <a:blip r:embed="rId1"/>
          <a:stretch/>
        </p:blipFill>
        <p:spPr>
          <a:xfrm>
            <a:off x="1071720" y="1643040"/>
            <a:ext cx="6879960" cy="36655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7" name="TextBox 7"/>
          <p:cNvSpPr/>
          <p:nvPr/>
        </p:nvSpPr>
        <p:spPr>
          <a:xfrm>
            <a:off x="2385360" y="0"/>
            <a:ext cx="67064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лаштування журналу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8" name="Прямая со стрелкой 14"/>
          <p:cNvCxnSpPr/>
          <p:nvPr/>
        </p:nvCxnSpPr>
        <p:spPr>
          <a:xfrm flipH="1" flipV="1">
            <a:off x="2143080" y="2428200"/>
            <a:ext cx="64332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9" name="TextBox 21"/>
          <p:cNvSpPr/>
          <p:nvPr/>
        </p:nvSpPr>
        <p:spPr>
          <a:xfrm>
            <a:off x="357120" y="5429160"/>
            <a:ext cx="8501040" cy="10087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оботи з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Журналом необхідно перевірити введення Основних списків, Навантажень та Розкладу. Для налаштування Журналу в КУРС: Школа заходимо в “Списки” розділ “Журнал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U:\Фищук В. О\Новая папка\35465.JPG"/>
          <p:cNvPicPr/>
          <p:nvPr/>
        </p:nvPicPr>
        <p:blipFill>
          <a:blip r:embed="rId2"/>
          <a:stretch/>
        </p:blipFill>
        <p:spPr>
          <a:xfrm>
            <a:off x="214200" y="1643040"/>
            <a:ext cx="4940280" cy="2643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285840" y="5072040"/>
            <a:ext cx="8572320" cy="13136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аходимо на сторінку журналу вибраного класу та натискаємо “Створити”. В вікні, яке з'явиться, ставимо галочки та імпортуємо всі предмети які введені в Навантаженнях. Вибираємо один із створених предметів та переходимо на його сторі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C:\Новая папка\10.JPG"/>
          <p:cNvPicPr/>
          <p:nvPr/>
        </p:nvPicPr>
        <p:blipFill>
          <a:blip r:embed="rId3"/>
          <a:stretch/>
        </p:blipFill>
        <p:spPr>
          <a:xfrm>
            <a:off x="2214720" y="2214720"/>
            <a:ext cx="3419280" cy="235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Новая папка\11.JPG"/>
          <p:cNvPicPr/>
          <p:nvPr/>
        </p:nvPicPr>
        <p:blipFill>
          <a:blip r:embed="rId4"/>
          <a:srcRect l="0" t="0" r="20545" b="0"/>
          <a:stretch/>
        </p:blipFill>
        <p:spPr>
          <a:xfrm>
            <a:off x="5500800" y="2500200"/>
            <a:ext cx="3500280" cy="23749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3"/>
          <p:cNvSpPr/>
          <p:nvPr/>
        </p:nvSpPr>
        <p:spPr>
          <a:xfrm>
            <a:off x="2385360" y="0"/>
            <a:ext cx="67064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лаштування журналу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C:\Новая папка\12.JPG"/>
          <p:cNvPicPr/>
          <p:nvPr/>
        </p:nvPicPr>
        <p:blipFill>
          <a:blip r:embed="rId2"/>
          <a:stretch/>
        </p:blipFill>
        <p:spPr>
          <a:xfrm>
            <a:off x="285840" y="1643040"/>
            <a:ext cx="6514920" cy="3486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Новая папка\12.1.JPG"/>
          <p:cNvPicPr/>
          <p:nvPr/>
        </p:nvPicPr>
        <p:blipFill>
          <a:blip r:embed="rId3"/>
          <a:stretch/>
        </p:blipFill>
        <p:spPr>
          <a:xfrm>
            <a:off x="5357880" y="2143080"/>
            <a:ext cx="3571920" cy="339084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357120" y="5643720"/>
            <a:ext cx="857268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ля створення уроків по обраному предмету тиснемо “Створити”. В вікні, яке з'явиться, ставимо галочки для імпорту уроків з Розкла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17"/>
          <p:cNvSpPr/>
          <p:nvPr/>
        </p:nvSpPr>
        <p:spPr>
          <a:xfrm>
            <a:off x="2385360" y="0"/>
            <a:ext cx="67064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лаштування журналу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:\Users\Veter\Desktop\Безымянный.png"/>
          <p:cNvPicPr/>
          <p:nvPr/>
        </p:nvPicPr>
        <p:blipFill>
          <a:blip r:embed="rId1"/>
          <a:stretch/>
        </p:blipFill>
        <p:spPr>
          <a:xfrm>
            <a:off x="1582560" y="1571760"/>
            <a:ext cx="5346720" cy="3714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5"/>
          <p:cNvSpPr/>
          <p:nvPr/>
        </p:nvSpPr>
        <p:spPr>
          <a:xfrm>
            <a:off x="142920" y="5405400"/>
            <a:ext cx="8786880" cy="10087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сля введення уроків переходимо до їх редагувань. Для внесення оцінок в Журнал необхідно вибрати відповідне поле учня та клацнути на ньому правою кнопкою миші. Можна ставити оцінки або інші відмі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14"/>
          <p:cNvSpPr/>
          <p:nvPr/>
        </p:nvSpPr>
        <p:spPr>
          <a:xfrm>
            <a:off x="2385360" y="0"/>
            <a:ext cx="67064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лаштування журналу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в 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:\Users\Veter\Desktop\8.JPG"/>
          <p:cNvPicPr/>
          <p:nvPr/>
        </p:nvPicPr>
        <p:blipFill>
          <a:blip r:embed="rId1"/>
          <a:stretch/>
        </p:blipFill>
        <p:spPr>
          <a:xfrm>
            <a:off x="414360" y="1571760"/>
            <a:ext cx="7085160" cy="3786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3352680" y="0"/>
            <a:ext cx="57722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Завантаження дани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на порт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C:\Новая папка\14.JPG"/>
          <p:cNvPicPr/>
          <p:nvPr/>
        </p:nvPicPr>
        <p:blipFill>
          <a:blip r:embed="rId3"/>
          <a:stretch/>
        </p:blipFill>
        <p:spPr>
          <a:xfrm>
            <a:off x="6215040" y="1928880"/>
            <a:ext cx="2786040" cy="35733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5"/>
          <p:cNvSpPr/>
          <p:nvPr/>
        </p:nvSpPr>
        <p:spPr>
          <a:xfrm>
            <a:off x="285840" y="5500800"/>
            <a:ext cx="8715240" cy="10087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завантаження даних на портал переходимо в програму КУРС: Сайт і натиска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є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 «Загрузить все». У інформаційному вікні бачимо передачу даних Журналу на порт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C:\Новая папка\21.JPG"/>
          <p:cNvPicPr/>
          <p:nvPr/>
        </p:nvPicPr>
        <p:blipFill>
          <a:blip r:embed="rId1"/>
          <a:srcRect l="0" t="10002" r="0" b="0"/>
          <a:stretch/>
        </p:blipFill>
        <p:spPr>
          <a:xfrm>
            <a:off x="2357280" y="2143080"/>
            <a:ext cx="6626520" cy="32148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4005360" y="0"/>
            <a:ext cx="463860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Генерація логі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а паро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C:\Новая папка\19.JPG"/>
          <p:cNvPicPr/>
          <p:nvPr/>
        </p:nvPicPr>
        <p:blipFill>
          <a:blip r:embed="rId3"/>
          <a:srcRect l="0" t="10347" r="0" b="0"/>
          <a:stretch/>
        </p:blipFill>
        <p:spPr>
          <a:xfrm>
            <a:off x="142920" y="1643040"/>
            <a:ext cx="3843360" cy="18572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2"/>
          <p:cNvSpPr/>
          <p:nvPr/>
        </p:nvSpPr>
        <p:spPr>
          <a:xfrm>
            <a:off x="142920" y="3643200"/>
            <a:ext cx="2143080" cy="2838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ля входу на порт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75e"/>
                </a:solidFill>
                <a:latin typeface="Arial"/>
              </a:rPr>
              <a:t>www.mz.com.ua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натискаємо “Авторизація”. Використовуємо Логін і Пароль такий як і на </a:t>
            </a:r>
            <a:r>
              <a:rPr b="0" lang="en-US" sz="2000" spc="-1" strike="noStrike">
                <a:solidFill>
                  <a:srgbClr val="17375e"/>
                </a:solidFill>
                <a:latin typeface="Arial"/>
              </a:rPr>
              <a:t>www.isuo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>
            <a:off x="2428920" y="5500800"/>
            <a:ext cx="650088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ля створення прав доступу учням і вчителям Заходимо в “Довідники” вибираємо Учн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Новая папка\22.JPG"/>
          <p:cNvPicPr/>
          <p:nvPr/>
        </p:nvPicPr>
        <p:blipFill>
          <a:blip r:embed="rId2"/>
          <a:srcRect l="0" t="10194" r="0" b="0"/>
          <a:stretch/>
        </p:blipFill>
        <p:spPr>
          <a:xfrm>
            <a:off x="1214280" y="1714680"/>
            <a:ext cx="6500880" cy="31464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5"/>
          <p:cNvSpPr/>
          <p:nvPr/>
        </p:nvSpPr>
        <p:spPr>
          <a:xfrm>
            <a:off x="357120" y="5286240"/>
            <a:ext cx="8429760" cy="703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отрапивши в список учнів ми можемо створити Логіни та Паролі зразу всім учням натиснувши “Згенерувати паролі для всіх учнів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005360" y="0"/>
            <a:ext cx="463860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Генерація логі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а паро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25:32Z</dcterms:created>
  <dc:creator/>
  <dc:description/>
  <dc:language>en-US</dc:language>
  <cp:lastModifiedBy/>
  <dcterms:modified xsi:type="dcterms:W3CDTF">2011-10-11T14:02:16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9990</vt:lpwstr>
  </property>
</Properties>
</file>