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1DB3-D293-48AF-945F-F675B6602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7615-3CD5-470B-B691-8195FBE194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A7B-E3F2-4644-BDFA-8BE01057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141-674F-4EC9-B279-25BC05C8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B3A-8973-40B3-AFCD-DE44A680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F5C-DC16-4DEF-94CB-F846F190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843B-9466-4BD1-B52F-A2CFD124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2C8-DB14-4C08-A23B-7F77A8D4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0F2-55F6-4F88-BDA9-1356B506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16C-38C8-4177-9462-D1379787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6DE-E29D-49B5-8532-2D0E0532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121-F605-4CB5-A9E9-39ED1C33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44F-F321-4297-A327-816080D2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E9E-7E63-4EDD-BA1D-678BFBF6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21B9-FC9E-4736-B876-8D964162118F}" type="slidenum">
              <a:rPr b="0" lang="en-US" sz="12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52" name="Rectangle 6" descr=""/>
            <p:cNvPicPr/>
            <p:nvPr/>
          </p:nvPicPr>
          <p:blipFill>
            <a:blip r:embed="rId3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4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9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grpSp>
          <p:nvGrpSpPr>
            <p:cNvPr id="101" name="Rectangle 17"/>
            <p:cNvGrpSpPr/>
            <p:nvPr/>
          </p:nvGrpSpPr>
          <p:grpSpPr>
            <a:xfrm>
              <a:off x="-1440" y="377640"/>
              <a:ext cx="9145440" cy="6108480"/>
              <a:chOff x="-1440" y="377640"/>
              <a:chExt cx="9145440" cy="6108480"/>
            </a:xfrm>
          </p:grpSpPr>
          <p:pic>
            <p:nvPicPr>
              <p:cNvPr id="102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-1440" y="377640"/>
                <a:ext cx="9145440" cy="610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4320" y="380520"/>
                <a:ext cx="9133560" cy="609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Rectangle 9"/>
            <p:cNvSpPr/>
            <p:nvPr/>
          </p:nvSpPr>
          <p:spPr>
            <a:xfrm>
              <a:off x="2880" y="0"/>
              <a:ext cx="913356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2880" y="6553440"/>
              <a:ext cx="913356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15"/>
            <p:cNvSpPr/>
            <p:nvPr/>
          </p:nvSpPr>
          <p:spPr>
            <a:xfrm>
              <a:off x="2880" y="380880"/>
              <a:ext cx="913356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16"/>
            <p:cNvSpPr/>
            <p:nvPr/>
          </p:nvSpPr>
          <p:spPr>
            <a:xfrm>
              <a:off x="2880" y="6477120"/>
              <a:ext cx="913356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429680" y="500040"/>
            <a:ext cx="1665000" cy="1639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142920" y="50004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819800" y="928800"/>
            <a:ext cx="564588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ТОВ НОВІ ЗНА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571680" y="278604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Навчальний посіб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143080" y="4098960"/>
            <a:ext cx="43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Семінар №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7"/>
          <p:cNvSpPr/>
          <p:nvPr/>
        </p:nvSpPr>
        <p:spPr>
          <a:xfrm>
            <a:off x="3093840" y="285840"/>
            <a:ext cx="565020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приміщ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10"/>
          <p:cNvSpPr/>
          <p:nvPr/>
        </p:nvSpPr>
        <p:spPr>
          <a:xfrm>
            <a:off x="500040" y="5286240"/>
            <a:ext cx="8429760" cy="11912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закладці “Додаткові” вводимо відповідальну особу за дане приміщення, або декілька осіб, натиснувши клавішу “Плюс” та натискаємо “Зберегти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Z:\Селезнев А. С\Скрины\4\помещение -5.JPG"/>
          <p:cNvPicPr/>
          <p:nvPr/>
        </p:nvPicPr>
        <p:blipFill>
          <a:blip r:embed="rId2"/>
          <a:stretch/>
        </p:blipFill>
        <p:spPr>
          <a:xfrm>
            <a:off x="1214280" y="1571760"/>
            <a:ext cx="4000680" cy="3639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Z:\Селезнев А. С\Скрины\4\помещение -4.JPG"/>
          <p:cNvPicPr/>
          <p:nvPr/>
        </p:nvPicPr>
        <p:blipFill>
          <a:blip r:embed="rId3"/>
          <a:stretch/>
        </p:blipFill>
        <p:spPr>
          <a:xfrm>
            <a:off x="4357800" y="2571840"/>
            <a:ext cx="335736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7"/>
          <p:cNvSpPr/>
          <p:nvPr/>
        </p:nvSpPr>
        <p:spPr>
          <a:xfrm>
            <a:off x="2313000" y="285840"/>
            <a:ext cx="66088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класів та учн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3" descr="Z:\Селезнев А. С\Скрины\4\Классы-1.JPG"/>
          <p:cNvPicPr/>
          <p:nvPr/>
        </p:nvPicPr>
        <p:blipFill>
          <a:blip r:embed="rId2"/>
          <a:stretch/>
        </p:blipFill>
        <p:spPr>
          <a:xfrm>
            <a:off x="857160" y="1571760"/>
            <a:ext cx="2000520" cy="1979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Z:\Селезнев А. С\Скрины\4\Классы-2.JPG"/>
          <p:cNvPicPr/>
          <p:nvPr/>
        </p:nvPicPr>
        <p:blipFill>
          <a:blip r:embed="rId3"/>
          <a:stretch/>
        </p:blipFill>
        <p:spPr>
          <a:xfrm>
            <a:off x="4286160" y="1571760"/>
            <a:ext cx="4857840" cy="45212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0"/>
          <p:cNvSpPr/>
          <p:nvPr/>
        </p:nvSpPr>
        <p:spPr>
          <a:xfrm>
            <a:off x="214200" y="3286080"/>
            <a:ext cx="3929040" cy="33858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ласи створюємо в закладці “Класи” , натиснувши “Створити”. Вибираємо зі списку, що випадає, основні дані класу: Паралель, Літеру, Зміну, Керівника, Мову навчання та інші дані, якщо потріб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7"/>
          <p:cNvSpPr/>
          <p:nvPr/>
        </p:nvSpPr>
        <p:spPr>
          <a:xfrm>
            <a:off x="2313000" y="285840"/>
            <a:ext cx="66088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класів та учн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357120" y="5143680"/>
            <a:ext cx="385776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бираємо додаткових керівників і консультантів, та ставимо галочки, якщо потріб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Z:\Селезнев А. С\Скрины\4\Классы-3.JPG"/>
          <p:cNvPicPr/>
          <p:nvPr/>
        </p:nvPicPr>
        <p:blipFill>
          <a:blip r:embed="rId2"/>
          <a:stretch/>
        </p:blipFill>
        <p:spPr>
          <a:xfrm>
            <a:off x="500040" y="1643040"/>
            <a:ext cx="3583080" cy="3443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Z:\Селезнев А. С\Скрины\4\Классы-4.JPG"/>
          <p:cNvPicPr/>
          <p:nvPr/>
        </p:nvPicPr>
        <p:blipFill>
          <a:blip r:embed="rId3"/>
          <a:stretch/>
        </p:blipFill>
        <p:spPr>
          <a:xfrm>
            <a:off x="5000760" y="1643040"/>
            <a:ext cx="3571920" cy="34322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9"/>
          <p:cNvSpPr/>
          <p:nvPr/>
        </p:nvSpPr>
        <p:spPr>
          <a:xfrm>
            <a:off x="5072040" y="5286240"/>
            <a:ext cx="3500640" cy="11912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наповнення класу учнями натискаємо клавішу “Плюс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7"/>
          <p:cNvSpPr/>
          <p:nvPr/>
        </p:nvSpPr>
        <p:spPr>
          <a:xfrm>
            <a:off x="2313000" y="285840"/>
            <a:ext cx="66088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класів та учн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Z:\Селезнев А. С\Скрины\4\Учень-1.JPG"/>
          <p:cNvPicPr/>
          <p:nvPr/>
        </p:nvPicPr>
        <p:blipFill>
          <a:blip r:embed="rId2"/>
          <a:stretch/>
        </p:blipFill>
        <p:spPr>
          <a:xfrm>
            <a:off x="209520" y="1571760"/>
            <a:ext cx="3791160" cy="49291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8"/>
          <p:cNvSpPr/>
          <p:nvPr/>
        </p:nvSpPr>
        <p:spPr>
          <a:xfrm>
            <a:off x="4214880" y="1643040"/>
            <a:ext cx="4714920" cy="37515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 Властивостях контакту вибираємо стать та вводимо основні дані про учня:  ПІБ, Дату народження, Посаду, № особової справи, ІНП, Паралель, Літеру та інші дані, якщо потріб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закладці “Ті, що навчаються” вводимо номер алфавітки та дату вступу до закладу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Z:\Селезнев А. С\Скрины\4\Учень-2.JPG"/>
          <p:cNvPicPr/>
          <p:nvPr/>
        </p:nvPicPr>
        <p:blipFill>
          <a:blip r:embed="rId3"/>
          <a:stretch/>
        </p:blipFill>
        <p:spPr>
          <a:xfrm>
            <a:off x="5143680" y="5500800"/>
            <a:ext cx="314784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7"/>
          <p:cNvSpPr/>
          <p:nvPr/>
        </p:nvSpPr>
        <p:spPr>
          <a:xfrm>
            <a:off x="2313000" y="285840"/>
            <a:ext cx="66088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класів та учн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" descr="Z:\Селезнев А. С\Скрины\4\Учень-3.JPG"/>
          <p:cNvPicPr/>
          <p:nvPr/>
        </p:nvPicPr>
        <p:blipFill>
          <a:blip r:embed="rId2"/>
          <a:stretch/>
        </p:blipFill>
        <p:spPr>
          <a:xfrm>
            <a:off x="1357200" y="3714840"/>
            <a:ext cx="2571840" cy="2917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Z:\Селезнев А. С\Скрины\4\Учень-4.JPG"/>
          <p:cNvPicPr/>
          <p:nvPr/>
        </p:nvPicPr>
        <p:blipFill>
          <a:blip r:embed="rId3"/>
          <a:stretch/>
        </p:blipFill>
        <p:spPr>
          <a:xfrm>
            <a:off x="5786280" y="1571760"/>
            <a:ext cx="3000600" cy="3403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9"/>
          <p:cNvSpPr/>
          <p:nvPr/>
        </p:nvSpPr>
        <p:spPr>
          <a:xfrm>
            <a:off x="142920" y="1643040"/>
            <a:ext cx="521496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водимо батьків даного учня та інші дані про них, якщо потріб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закладці спеціальні ставимо галочки</a:t>
            </a:r>
            <a:r>
              <a:rPr b="0" lang="uk-UA" sz="2400" spc="-1" strike="noStrike" baseline="30000">
                <a:solidFill>
                  <a:srgbClr val="ffffff"/>
                </a:solidFill>
                <a:latin typeface="Arial"/>
              </a:rPr>
              <a:t> *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яким відповідає даний учень</a:t>
            </a:r>
            <a:r>
              <a:rPr b="0" lang="uk-UA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а натискаємо “Зберегти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4429080" y="5143680"/>
            <a:ext cx="4572000" cy="131292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ільш детальна інформація в інструкції, яка лежить в папці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/КУР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7"/>
          <p:cNvSpPr/>
          <p:nvPr/>
        </p:nvSpPr>
        <p:spPr>
          <a:xfrm>
            <a:off x="267768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500040" y="1928880"/>
            <a:ext cx="842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Рекомендовані терміни: 12 робочих дні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: Відображення на порталі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актуальних даних про учнів, вчителів, приміщень шко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Продовження в §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578592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Дякуємо за співпрацю!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45" name="TextBox 7"/>
          <p:cNvSpPr/>
          <p:nvPr/>
        </p:nvSpPr>
        <p:spPr>
          <a:xfrm>
            <a:off x="267768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1214280" y="1571760"/>
            <a:ext cx="62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ТОВ НОВІ ЗНАН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1857240" y="2428920"/>
            <a:ext cx="52149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хнічна підтрим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: +38 (057) 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об:+38(050) 203-44-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+38(097) 678-76-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+38(063) 590-35-00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E-mail:  info@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yr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642960" y="3571920"/>
            <a:ext cx="1508040" cy="16700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10" descr="RK.jpg"/>
          <p:cNvPicPr/>
          <p:nvPr/>
        </p:nvPicPr>
        <p:blipFill>
          <a:blip r:embed="rId3"/>
          <a:stretch/>
        </p:blipFill>
        <p:spPr>
          <a:xfrm>
            <a:off x="6735600" y="3571920"/>
            <a:ext cx="219420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673720" y="357120"/>
            <a:ext cx="58471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571680" y="171468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3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Внесення даних школ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785880" y="285768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несення предме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несення вчител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несення приміщ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несення класів та учн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7"/>
          <p:cNvSpPr/>
          <p:nvPr/>
        </p:nvSpPr>
        <p:spPr>
          <a:xfrm>
            <a:off x="3080520" y="285840"/>
            <a:ext cx="546732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предмет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" descr="Z:\Селезнев А. С\Скрины\4\Предмет -1.JPG"/>
          <p:cNvPicPr/>
          <p:nvPr/>
        </p:nvPicPr>
        <p:blipFill>
          <a:blip r:embed="rId2"/>
          <a:stretch/>
        </p:blipFill>
        <p:spPr>
          <a:xfrm>
            <a:off x="2143080" y="1571760"/>
            <a:ext cx="2333520" cy="235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Z:\Селезнев А. С\Скрины\4\Предмет -2.JPG"/>
          <p:cNvPicPr/>
          <p:nvPr/>
        </p:nvPicPr>
        <p:blipFill>
          <a:blip r:embed="rId3"/>
          <a:stretch/>
        </p:blipFill>
        <p:spPr>
          <a:xfrm>
            <a:off x="4003560" y="1704960"/>
            <a:ext cx="4926240" cy="40100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0"/>
          <p:cNvSpPr/>
          <p:nvPr/>
        </p:nvSpPr>
        <p:spPr>
          <a:xfrm>
            <a:off x="250920" y="3643200"/>
            <a:ext cx="3744720" cy="30200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ворити предмет та вказати його основні дан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ожна  натиснувши “Створити”  в закладці “Предмети” . Також потрібно виставити Назву, Галузь та інші атрибути предм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3080520" y="285840"/>
            <a:ext cx="546732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предмет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5786280" y="2071800"/>
            <a:ext cx="3214800" cy="33858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закладці “Додаткові” вводимо додаткові дані про предмет. Вибирає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уди він відноситься при створенню звітів. Виставляємо необхідні галочки, та коди, якщо це м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Группа 8"/>
          <p:cNvGrpSpPr/>
          <p:nvPr/>
        </p:nvGrpSpPr>
        <p:grpSpPr>
          <a:xfrm>
            <a:off x="357120" y="1643040"/>
            <a:ext cx="5276880" cy="4295880"/>
            <a:chOff x="357120" y="1643040"/>
            <a:chExt cx="5276880" cy="4295880"/>
          </a:xfrm>
        </p:grpSpPr>
        <p:pic>
          <p:nvPicPr>
            <p:cNvPr id="175" name="Picture 2" descr="Z:\Селезнев А. С\Скрины\4\Предмет -3.JPG"/>
            <p:cNvPicPr/>
            <p:nvPr/>
          </p:nvPicPr>
          <p:blipFill>
            <a:blip r:embed="rId2"/>
            <a:stretch/>
          </p:blipFill>
          <p:spPr>
            <a:xfrm>
              <a:off x="357120" y="1643040"/>
              <a:ext cx="5276880" cy="42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6"/>
            <p:cNvSpPr/>
            <p:nvPr/>
          </p:nvSpPr>
          <p:spPr>
            <a:xfrm>
              <a:off x="785520" y="2263680"/>
              <a:ext cx="2500200" cy="27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3069000" y="285840"/>
            <a:ext cx="50590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вчител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214200" y="3929040"/>
            <a:ext cx="4500720" cy="265428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чителів створюємо в закладці “Люди”. Вводимо основні дані про вчителя: Стать, ПІБ, Дату народження, Посаду, Кваліфікацію, № особової справи, ІНП та інші дані, якщо потрібно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Z:\Селезнев А. С\Скрины\4\люди-1.JPG"/>
          <p:cNvPicPr/>
          <p:nvPr/>
        </p:nvPicPr>
        <p:blipFill>
          <a:blip r:embed="rId2"/>
          <a:stretch/>
        </p:blipFill>
        <p:spPr>
          <a:xfrm>
            <a:off x="1071720" y="1571760"/>
            <a:ext cx="2071440" cy="2255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Z:\Селезнев А. С\Скрины\4\люди-2.JPG"/>
          <p:cNvPicPr/>
          <p:nvPr/>
        </p:nvPicPr>
        <p:blipFill>
          <a:blip r:embed="rId3"/>
          <a:stretch/>
        </p:blipFill>
        <p:spPr>
          <a:xfrm>
            <a:off x="4786200" y="1608120"/>
            <a:ext cx="3708360" cy="48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7"/>
          <p:cNvSpPr/>
          <p:nvPr/>
        </p:nvSpPr>
        <p:spPr>
          <a:xfrm>
            <a:off x="3069000" y="285840"/>
            <a:ext cx="50590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вчител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214200" y="5286240"/>
            <a:ext cx="4500720" cy="11912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закладці “Для співробітників” вказуємо дані, які має цей вч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Z:\Селезнев А. С\Скрины\4\люди-3.JPG"/>
          <p:cNvPicPr/>
          <p:nvPr/>
        </p:nvPicPr>
        <p:blipFill>
          <a:blip r:embed="rId2"/>
          <a:stretch/>
        </p:blipFill>
        <p:spPr>
          <a:xfrm>
            <a:off x="946080" y="1643040"/>
            <a:ext cx="2746440" cy="3571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Z:\Селезнев А. С\Скрины\4\люди-4.JPG"/>
          <p:cNvPicPr/>
          <p:nvPr/>
        </p:nvPicPr>
        <p:blipFill>
          <a:blip r:embed="rId3"/>
          <a:stretch/>
        </p:blipFill>
        <p:spPr>
          <a:xfrm>
            <a:off x="5357880" y="1628640"/>
            <a:ext cx="2759040" cy="35863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8"/>
          <p:cNvSpPr/>
          <p:nvPr/>
        </p:nvSpPr>
        <p:spPr>
          <a:xfrm>
            <a:off x="4929120" y="5300640"/>
            <a:ext cx="407196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закладці “Побажання” виставляємо побажання щодо розкладу  роботи вчит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7"/>
          <p:cNvSpPr/>
          <p:nvPr/>
        </p:nvSpPr>
        <p:spPr>
          <a:xfrm>
            <a:off x="3069000" y="285840"/>
            <a:ext cx="50590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вчител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1700280"/>
            <a:ext cx="4500360" cy="448308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закладці “Спеціальні” ставимо галочки, яким відповідає цей вчитель та вибираємо його освіт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ставляємо дату зачислення на цю роботу. Вводимо Стаж вчителя: Загальний та Педагогічний: це стаж, який був у нього до прийняття на дану поса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сля введення всіх даних натискаємо кнопку “Зберегт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2" descr="Z:\Селезнев А. С\Скрины\4\люди-5.JPG"/>
          <p:cNvPicPr/>
          <p:nvPr/>
        </p:nvPicPr>
        <p:blipFill>
          <a:blip r:embed="rId2"/>
          <a:stretch/>
        </p:blipFill>
        <p:spPr>
          <a:xfrm>
            <a:off x="395280" y="1628640"/>
            <a:ext cx="387504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7"/>
          <p:cNvSpPr/>
          <p:nvPr/>
        </p:nvSpPr>
        <p:spPr>
          <a:xfrm>
            <a:off x="3093840" y="285840"/>
            <a:ext cx="565020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приміщ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2" descr="Z:\Селезнев А. С\Скрины\4\помещение -3,5.JPG"/>
          <p:cNvPicPr/>
          <p:nvPr/>
        </p:nvPicPr>
        <p:blipFill>
          <a:blip r:embed="rId2"/>
          <a:stretch/>
        </p:blipFill>
        <p:spPr>
          <a:xfrm>
            <a:off x="714240" y="1714680"/>
            <a:ext cx="3515040" cy="41432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0"/>
          <p:cNvSpPr/>
          <p:nvPr/>
        </p:nvSpPr>
        <p:spPr>
          <a:xfrm>
            <a:off x="4143240" y="1785960"/>
            <a:ext cx="4357800" cy="265428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створення приміщень в Вашій школі необхідно спочатку створити Корпуси, Поверхи, Спортзали, Стадіони  та таке інше, після цього натиснути кнопку “Створити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3" descr="Z:\Селезнев А. С\Скрины\4\помещение -2.JPG"/>
          <p:cNvPicPr/>
          <p:nvPr/>
        </p:nvPicPr>
        <p:blipFill>
          <a:blip r:embed="rId3"/>
          <a:stretch/>
        </p:blipFill>
        <p:spPr>
          <a:xfrm>
            <a:off x="6072120" y="4486320"/>
            <a:ext cx="228600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7"/>
          <p:cNvSpPr/>
          <p:nvPr/>
        </p:nvSpPr>
        <p:spPr>
          <a:xfrm>
            <a:off x="3093840" y="285840"/>
            <a:ext cx="565020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приміщен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285840" y="2382840"/>
            <a:ext cx="3643200" cy="30200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 закладці “Основні” вводимо основні дані про приміщення: Номер, Назва, Кількість місць, Площа, Корпус, Поверх, Спеціалізація та виставляємо необхідні  галоч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Z:\Селезнев А. С\Скрины\4\помещение -3.JPG"/>
          <p:cNvPicPr/>
          <p:nvPr/>
        </p:nvPicPr>
        <p:blipFill>
          <a:blip r:embed="rId2"/>
          <a:stretch/>
        </p:blipFill>
        <p:spPr>
          <a:xfrm>
            <a:off x="4133880" y="1857240"/>
            <a:ext cx="4867200" cy="442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25:32Z</dcterms:created>
  <dc:creator/>
  <dc:description/>
  <dc:language>en-US</dc:language>
  <cp:lastModifiedBy/>
  <dcterms:modified xsi:type="dcterms:W3CDTF">2011-10-11T13:43:20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619990</vt:lpwstr>
  </property>
</Properties>
</file>