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8.png" ContentType="image/pn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21.png" ContentType="image/png"/>
  <Override PartName="/ppt/media/image19.png" ContentType="image/pn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FE47-5E71-443B-AF80-EFFE47B7E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2170-2B10-4E45-BD5E-972A6643C5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9BD8-79CB-48D0-B657-139C6D12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269-282E-43CB-BCA5-F6FB6629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2652-7707-4DD1-BC33-0FCB74C3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808-F90B-4B63-9B43-003B955A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3E1-FBDD-486B-A2EC-D0CC1C2B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12C-DCB4-439F-A987-EA5D8025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CE88-9B96-42A2-B8DA-F39431E3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014-1F01-4F87-8E99-E4818FC7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08EC-1F7B-407A-9651-2AD07876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9F6-F1BE-483F-A06A-70891B3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599-7A7A-4A29-8C1A-43CA4BD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39E-AE3E-4A24-8938-17F446F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7798-15F7-47D4-B627-8DDAE66A2603}" type="slidenum"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52" name="Rectangle 6" descr=""/>
            <p:cNvPicPr/>
            <p:nvPr/>
          </p:nvPicPr>
          <p:blipFill>
            <a:blip r:embed="rId3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9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101" name="Rectangle 17"/>
            <p:cNvGrpSpPr/>
            <p:nvPr/>
          </p:nvGrpSpPr>
          <p:grpSpPr>
            <a:xfrm>
              <a:off x="-1440" y="377640"/>
              <a:ext cx="9145440" cy="6108480"/>
              <a:chOff x="-1440" y="377640"/>
              <a:chExt cx="9145440" cy="6108480"/>
            </a:xfrm>
          </p:grpSpPr>
          <p:pic>
            <p:nvPicPr>
              <p:cNvPr id="102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40" y="377640"/>
                <a:ext cx="9145440" cy="61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4320" y="380520"/>
                <a:ext cx="9133560" cy="609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Rectangle 9"/>
            <p:cNvSpPr/>
            <p:nvPr/>
          </p:nvSpPr>
          <p:spPr>
            <a:xfrm>
              <a:off x="2880" y="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2880" y="655344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15"/>
            <p:cNvSpPr/>
            <p:nvPr/>
          </p:nvSpPr>
          <p:spPr>
            <a:xfrm>
              <a:off x="2880" y="38088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16"/>
            <p:cNvSpPr/>
            <p:nvPr/>
          </p:nvSpPr>
          <p:spPr>
            <a:xfrm>
              <a:off x="2880" y="647712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21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429680" y="500040"/>
            <a:ext cx="1665000" cy="1639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142920" y="50004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685520" y="928800"/>
            <a:ext cx="564588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ТОВ НОВІ ЗНА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571680" y="278604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Навчальний посіб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143080" y="409896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Семінар №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10" name="TextBox 7"/>
          <p:cNvSpPr/>
          <p:nvPr/>
        </p:nvSpPr>
        <p:spPr>
          <a:xfrm>
            <a:off x="2878920" y="0"/>
            <a:ext cx="5514840" cy="125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Створення розкла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напівавтоматич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Z:\Селезнев А. С\Скрины\4\расписание3.png"/>
          <p:cNvPicPr/>
          <p:nvPr/>
        </p:nvPicPr>
        <p:blipFill>
          <a:blip r:embed="rId2"/>
          <a:stretch/>
        </p:blipFill>
        <p:spPr>
          <a:xfrm>
            <a:off x="2116080" y="1571760"/>
            <a:ext cx="4670640" cy="34020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142920" y="4572000"/>
            <a:ext cx="885492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створення розкладу в напівавтоматичному режимі заходимо в закладку “Для Вчителів” натискаємо в необхідному вам полі правою кнопкою миші та вибираємо, для якого класу та який предмет буде читати даний вчитель. Вибираємо Приміщення та натискаємо “Зберегти”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3" descr="Z:\Селезнев А. С\Скрины\4\Расписание8.JPG"/>
          <p:cNvPicPr/>
          <p:nvPr/>
        </p:nvPicPr>
        <p:blipFill>
          <a:blip r:embed="rId3"/>
          <a:stretch/>
        </p:blipFill>
        <p:spPr>
          <a:xfrm>
            <a:off x="4572000" y="1930320"/>
            <a:ext cx="4346640" cy="1212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Z:\Селезнев А. С\Скрины\4\Расписание7.JPG"/>
          <p:cNvPicPr/>
          <p:nvPr/>
        </p:nvPicPr>
        <p:blipFill>
          <a:blip r:embed="rId4"/>
          <a:stretch/>
        </p:blipFill>
        <p:spPr>
          <a:xfrm>
            <a:off x="357120" y="3143160"/>
            <a:ext cx="280980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Z:\Селезнев А. С\Скрины\4\расписание34.png"/>
          <p:cNvPicPr/>
          <p:nvPr/>
        </p:nvPicPr>
        <p:blipFill>
          <a:blip r:embed="rId1"/>
          <a:stretch/>
        </p:blipFill>
        <p:spPr>
          <a:xfrm>
            <a:off x="2286000" y="1571760"/>
            <a:ext cx="6586560" cy="4824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7"/>
          <p:cNvSpPr/>
          <p:nvPr/>
        </p:nvSpPr>
        <p:spPr>
          <a:xfrm>
            <a:off x="2893320" y="0"/>
            <a:ext cx="5514840" cy="125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Створення розкла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напівавтоматич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71280" y="4335480"/>
            <a:ext cx="4788000" cy="22885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введення деяких предметів в ручному режимі інші можемо вводити автоматично : натискаємо “Авто” та натискаємо кнопку “Нет” в віконці “Підтвердження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Z:\Селезнев А. С\Скрины\4\расписание3.png"/>
          <p:cNvPicPr/>
          <p:nvPr/>
        </p:nvPicPr>
        <p:blipFill>
          <a:blip r:embed="rId3"/>
          <a:srcRect l="0" t="0" r="53096" b="54799"/>
          <a:stretch/>
        </p:blipFill>
        <p:spPr>
          <a:xfrm>
            <a:off x="142920" y="1714680"/>
            <a:ext cx="3357360" cy="2357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Z:\Селезнев А. С\Скрины\4\Расписание3.JPG"/>
          <p:cNvPicPr/>
          <p:nvPr/>
        </p:nvPicPr>
        <p:blipFill>
          <a:blip r:embed="rId4"/>
          <a:stretch/>
        </p:blipFill>
        <p:spPr>
          <a:xfrm>
            <a:off x="2357280" y="3246480"/>
            <a:ext cx="2136960" cy="968400"/>
          </a:xfrm>
          <a:prstGeom prst="rect">
            <a:avLst/>
          </a:prstGeom>
          <a:ln w="0">
            <a:noFill/>
          </a:ln>
        </p:spPr>
      </p:pic>
      <p:cxnSp>
        <p:nvCxnSpPr>
          <p:cNvPr id="222" name="Прямая со стрелкой 9"/>
          <p:cNvCxnSpPr/>
          <p:nvPr/>
        </p:nvCxnSpPr>
        <p:spPr>
          <a:xfrm flipH="1" flipV="1">
            <a:off x="1213920" y="2714400"/>
            <a:ext cx="572400" cy="357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7"/>
          <p:cNvSpPr/>
          <p:nvPr/>
        </p:nvSpPr>
        <p:spPr>
          <a:xfrm>
            <a:off x="2878920" y="0"/>
            <a:ext cx="55148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Створення розкла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6072120" y="1857240"/>
            <a:ext cx="2857680" cy="37515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закінчення формування розкладу  при переході на закладку “Для учнів”, можна побачити, як сформований розклад на даний тиждень для учні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2" descr="Z:\Селезнев А. С\Скрины\4\Расписание4.JPG"/>
          <p:cNvPicPr/>
          <p:nvPr/>
        </p:nvPicPr>
        <p:blipFill>
          <a:blip r:embed="rId2"/>
          <a:stretch/>
        </p:blipFill>
        <p:spPr>
          <a:xfrm>
            <a:off x="71280" y="1571760"/>
            <a:ext cx="5857920" cy="45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7"/>
          <p:cNvSpPr/>
          <p:nvPr/>
        </p:nvSpPr>
        <p:spPr>
          <a:xfrm>
            <a:off x="2893320" y="285840"/>
            <a:ext cx="551484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Створення розкла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6357960" y="1857240"/>
            <a:ext cx="2643120" cy="30200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кщо перейти на закладку “Для Вчителів” – там можна побачити, як сформований розклад на даний тиждень для вчителі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Z:\Селезнев А. С\Скрины\4\расписание 23.png"/>
          <p:cNvPicPr/>
          <p:nvPr/>
        </p:nvPicPr>
        <p:blipFill>
          <a:blip r:embed="rId2"/>
          <a:stretch/>
        </p:blipFill>
        <p:spPr>
          <a:xfrm>
            <a:off x="71280" y="1565280"/>
            <a:ext cx="6215400" cy="45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2893320" y="285840"/>
            <a:ext cx="551484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Створення розкла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6300720" y="1916280"/>
            <a:ext cx="2664000" cy="30200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ереходячи на закладку “За Приміщеннями” – там побачимо зайнятість уроками приміщень на даний тижден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Z:\Селезнев А. С\Скрины\4\Расписание5.JPG"/>
          <p:cNvPicPr/>
          <p:nvPr/>
        </p:nvPicPr>
        <p:blipFill>
          <a:blip r:embed="rId2"/>
          <a:stretch/>
        </p:blipFill>
        <p:spPr>
          <a:xfrm>
            <a:off x="87480" y="1571760"/>
            <a:ext cx="6127560" cy="47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2878920" y="0"/>
            <a:ext cx="55148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Створення розкла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324000" y="4929120"/>
            <a:ext cx="849600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створення розкладу на наступні тижні можна скопіювати розклад даного тижня, зайшовши в “Операції” на натиснувши “Копіювати”. Перейшовши на наступний тиждень, заходимо в “Операції” та натискаємо “Вставити”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Users\Veter\Desktop\копировать.png"/>
          <p:cNvPicPr/>
          <p:nvPr/>
        </p:nvPicPr>
        <p:blipFill>
          <a:blip r:embed="rId2"/>
          <a:stretch/>
        </p:blipFill>
        <p:spPr>
          <a:xfrm>
            <a:off x="214200" y="1571760"/>
            <a:ext cx="2714760" cy="3308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C:\Users\Veter\Desktop\копировать 2.png"/>
          <p:cNvPicPr/>
          <p:nvPr/>
        </p:nvPicPr>
        <p:blipFill>
          <a:blip r:embed="rId3"/>
          <a:srcRect l="0" t="0" r="19237" b="0"/>
          <a:stretch/>
        </p:blipFill>
        <p:spPr>
          <a:xfrm>
            <a:off x="6286680" y="1571760"/>
            <a:ext cx="2714400" cy="3286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Users\Veter\Desktop\Безымянный.png"/>
          <p:cNvPicPr/>
          <p:nvPr/>
        </p:nvPicPr>
        <p:blipFill>
          <a:blip r:embed="rId4"/>
          <a:stretch/>
        </p:blipFill>
        <p:spPr>
          <a:xfrm>
            <a:off x="3429000" y="1714680"/>
            <a:ext cx="2500200" cy="1796760"/>
          </a:xfrm>
          <a:prstGeom prst="rect">
            <a:avLst/>
          </a:prstGeom>
          <a:ln w="0">
            <a:noFill/>
          </a:ln>
        </p:spPr>
      </p:pic>
      <p:sp>
        <p:nvSpPr>
          <p:cNvPr id="245" name="Стрелка вправо с вырезом 9"/>
          <p:cNvSpPr/>
          <p:nvPr/>
        </p:nvSpPr>
        <p:spPr>
          <a:xfrm>
            <a:off x="3643200" y="3643200"/>
            <a:ext cx="1857600" cy="1214640"/>
          </a:xfrm>
          <a:custGeom>
            <a:avLst/>
            <a:gdLst>
              <a:gd name="textAreaLeft" fmla="*/ 303480 w 1857600"/>
              <a:gd name="textAreaRight" fmla="*/ 1554120 w 185760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538" y="5400"/>
                </a:lnTo>
                <a:lnTo>
                  <a:pt x="14538" y="0"/>
                </a:lnTo>
                <a:lnTo>
                  <a:pt x="21600" y="10800"/>
                </a:lnTo>
                <a:lnTo>
                  <a:pt x="14538" y="21600"/>
                </a:lnTo>
                <a:lnTo>
                  <a:pt x="14538" y="16200"/>
                </a:lnTo>
                <a:lnTo>
                  <a:pt x="0" y="16200"/>
                </a:lnTo>
                <a:lnTo>
                  <a:pt x="353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2878920" y="0"/>
            <a:ext cx="55148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Створення розкла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79280" y="5300640"/>
            <a:ext cx="8713800" cy="1191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Щоб перенести розклад  в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l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б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ml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тискаємо “Експорт” та вибираємо куди і що перенести – “Всі паралелі” або “По одній паралелі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2" descr="C:\Users\Veter\Desktop\копировать 3.png"/>
          <p:cNvPicPr/>
          <p:nvPr/>
        </p:nvPicPr>
        <p:blipFill>
          <a:blip r:embed="rId2"/>
          <a:stretch/>
        </p:blipFill>
        <p:spPr>
          <a:xfrm>
            <a:off x="1332000" y="1700280"/>
            <a:ext cx="659448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7"/>
          <p:cNvSpPr/>
          <p:nvPr/>
        </p:nvSpPr>
        <p:spPr>
          <a:xfrm>
            <a:off x="253332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642960" y="1928880"/>
            <a:ext cx="814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Рекомендовані терміни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 дні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:  Відмітки на порталі по етапам впровадженн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Вітаємо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Головна частина робота викон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578592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Дякуємо за співпрацю!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7"/>
          <p:cNvSpPr/>
          <p:nvPr/>
        </p:nvSpPr>
        <p:spPr>
          <a:xfrm>
            <a:off x="253332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5"/>
          <p:cNvSpPr/>
          <p:nvPr/>
        </p:nvSpPr>
        <p:spPr>
          <a:xfrm>
            <a:off x="1214280" y="1571760"/>
            <a:ext cx="62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ТОВ НОВІ ЗНАН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857240" y="2428920"/>
            <a:ext cx="52149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хнічна підтрим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: +38 (057) 777-02-7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об:+38(050) 203-44-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97) 678-76-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63) 590-35-00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-mail:  info@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yr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642960" y="3571920"/>
            <a:ext cx="1508040" cy="167004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0" descr="RK.jpg"/>
          <p:cNvPicPr/>
          <p:nvPr/>
        </p:nvPicPr>
        <p:blipFill>
          <a:blip r:embed="rId3"/>
          <a:stretch/>
        </p:blipFill>
        <p:spPr>
          <a:xfrm>
            <a:off x="6735600" y="3571920"/>
            <a:ext cx="2194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53332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785880" y="171468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Створення розклад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357120" y="2857680"/>
            <a:ext cx="86439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есення навантажен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для одного кл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для одного класу на дві підгруп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інші варіан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ревірка та редагування співвіднош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творення розклад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автоматичний ре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олуавтоматичний режи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7"/>
          <p:cNvSpPr/>
          <p:nvPr/>
        </p:nvSpPr>
        <p:spPr>
          <a:xfrm>
            <a:off x="2890800" y="0"/>
            <a:ext cx="6234120" cy="125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навантаж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один кла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785880" y="1643040"/>
            <a:ext cx="2214360" cy="23623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9"/>
          <p:cNvSpPr/>
          <p:nvPr/>
        </p:nvSpPr>
        <p:spPr>
          <a:xfrm>
            <a:off x="611280" y="4572000"/>
            <a:ext cx="792144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ход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им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закладку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“Навантаження” та натискаєте кнопку “Створити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бираємо зі списків, що випадають Клас, Предмет, Тип, Вчителя та інші дані які відносяться до даного навантаження. Після введення навантаження натискаємо “Зберегти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2857680" y="1785960"/>
            <a:ext cx="568476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2876400" y="0"/>
            <a:ext cx="6234120" cy="125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навантаж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один клас дві підгру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Z:\Селезнев А. С\Скрины\4\1нагрузки.JPG"/>
          <p:cNvPicPr/>
          <p:nvPr/>
        </p:nvPicPr>
        <p:blipFill>
          <a:blip r:embed="rId2"/>
          <a:stretch/>
        </p:blipFill>
        <p:spPr>
          <a:xfrm>
            <a:off x="1714680" y="1563840"/>
            <a:ext cx="5572080" cy="30715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6"/>
          <p:cNvSpPr/>
          <p:nvPr/>
        </p:nvSpPr>
        <p:spPr>
          <a:xfrm>
            <a:off x="642960" y="4572000"/>
            <a:ext cx="792972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водимо всі дані, як і на попередньому малюнку, кількість підгруп вибираємо 2. Призначаємо для першої і другої підгруп Вчителів, Приміщення, Ци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тискаєте “Зберегти”, потім знову відкриваємо це навантаже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Z:\Селезнев А. С\Скрины\4\1нагрузки.JPG"/>
          <p:cNvPicPr/>
          <p:nvPr/>
        </p:nvPicPr>
        <p:blipFill>
          <a:blip r:embed="rId1"/>
          <a:stretch/>
        </p:blipFill>
        <p:spPr>
          <a:xfrm>
            <a:off x="2916360" y="3645000"/>
            <a:ext cx="5286240" cy="29145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2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7"/>
          <p:cNvSpPr/>
          <p:nvPr/>
        </p:nvSpPr>
        <p:spPr>
          <a:xfrm>
            <a:off x="2876400" y="0"/>
            <a:ext cx="6234120" cy="125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навантаж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один клас дві підгру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3214800" y="1943280"/>
            <a:ext cx="5857920" cy="1191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ходимо в закладку “Розподіл учнів” та розділіть учнів по підгрупах. Після розподілу учнів натискаємо “Зберегт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Z:\Селезнев А. С\Скрины\4\нагрузки1,5.JPG"/>
          <p:cNvPicPr/>
          <p:nvPr/>
        </p:nvPicPr>
        <p:blipFill>
          <a:blip r:embed="rId3"/>
          <a:stretch/>
        </p:blipFill>
        <p:spPr>
          <a:xfrm>
            <a:off x="357120" y="1643040"/>
            <a:ext cx="277812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876400" y="0"/>
            <a:ext cx="6234120" cy="125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навантаж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два різних класи по 1 підгруп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Z:\Селезнев А. С\Скрины\4\нагрузки2.JPG"/>
          <p:cNvPicPr/>
          <p:nvPr/>
        </p:nvPicPr>
        <p:blipFill>
          <a:blip r:embed="rId2"/>
          <a:stretch/>
        </p:blipFill>
        <p:spPr>
          <a:xfrm>
            <a:off x="71280" y="1571760"/>
            <a:ext cx="3368880" cy="1857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Z:\Селезнев А. С\Скрины\4\нагрузки3.JPG"/>
          <p:cNvPicPr/>
          <p:nvPr/>
        </p:nvPicPr>
        <p:blipFill>
          <a:blip r:embed="rId3"/>
          <a:stretch/>
        </p:blipFill>
        <p:spPr>
          <a:xfrm>
            <a:off x="5573880" y="1571760"/>
            <a:ext cx="3498840" cy="1928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Z:\Селезнев А. С\Скрины\4\нагрузки4.JPG"/>
          <p:cNvPicPr/>
          <p:nvPr/>
        </p:nvPicPr>
        <p:blipFill>
          <a:blip r:embed="rId4"/>
          <a:stretch/>
        </p:blipFill>
        <p:spPr>
          <a:xfrm>
            <a:off x="6829560" y="3429000"/>
            <a:ext cx="2171520" cy="2793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Z:\Селезнев А. С\Скрины\4\нагрузки4,5.JPG"/>
          <p:cNvPicPr/>
          <p:nvPr/>
        </p:nvPicPr>
        <p:blipFill>
          <a:blip r:embed="rId5"/>
          <a:stretch/>
        </p:blipFill>
        <p:spPr>
          <a:xfrm>
            <a:off x="179280" y="3357720"/>
            <a:ext cx="1955880" cy="27763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6"/>
          <p:cNvSpPr/>
          <p:nvPr/>
        </p:nvSpPr>
        <p:spPr>
          <a:xfrm>
            <a:off x="1908000" y="3214800"/>
            <a:ext cx="5185080" cy="3385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творюємо навантаження для одного класу, ставимо галочку біля першої підгрупи, другу залишаємо пустою. Розділяємо учнів по підгрупах. Для другого класу проводимо ті ж самі дії, тільки ставте галочку біля другої підгрупи, а першу залиште пустою. Після чого натискаємо “Зв’язки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2876400" y="0"/>
            <a:ext cx="6234120" cy="125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навантаж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два різних класи по 1 підгруп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571680" y="4929120"/>
            <a:ext cx="821520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“Зв'язки” вибираємо “1 урок, 1 кабінет”, а в Навантаження вибираємо першу підгрупу цього класу і другу підгрупу другого класу та натискаємо “Зберегти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'явиться два навантаження, які зв'язані між соб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Z:\Селезнев А. С\Скрины\4\нагрузки6.JPG"/>
          <p:cNvPicPr/>
          <p:nvPr/>
        </p:nvPicPr>
        <p:blipFill>
          <a:blip r:embed="rId2"/>
          <a:stretch/>
        </p:blipFill>
        <p:spPr>
          <a:xfrm>
            <a:off x="3643200" y="1571760"/>
            <a:ext cx="5000760" cy="3317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Z:\Селезнев А. С\Скрины\4\нагрузки5.JPG"/>
          <p:cNvPicPr/>
          <p:nvPr/>
        </p:nvPicPr>
        <p:blipFill>
          <a:blip r:embed="rId3"/>
          <a:stretch/>
        </p:blipFill>
        <p:spPr>
          <a:xfrm>
            <a:off x="357120" y="2071800"/>
            <a:ext cx="429588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3765960" y="285840"/>
            <a:ext cx="435960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Співвідноше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Z:\Селезнев А. С\Скрины\4\1Соотношения.JPG"/>
          <p:cNvPicPr/>
          <p:nvPr/>
        </p:nvPicPr>
        <p:blipFill>
          <a:blip r:embed="rId2"/>
          <a:stretch/>
        </p:blipFill>
        <p:spPr>
          <a:xfrm>
            <a:off x="1285920" y="1928880"/>
            <a:ext cx="1603440" cy="158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Z:\Селезнев А. С\Скрины\4\2соотношения.JPG"/>
          <p:cNvPicPr/>
          <p:nvPr/>
        </p:nvPicPr>
        <p:blipFill>
          <a:blip r:embed="rId3"/>
          <a:stretch/>
        </p:blipFill>
        <p:spPr>
          <a:xfrm>
            <a:off x="3929040" y="1643040"/>
            <a:ext cx="5143680" cy="3978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142920" y="3929040"/>
            <a:ext cx="4500360" cy="22885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піввідношення введіть в розділі “Списки” закладка ”Співвідношення”. Вибираємо рекомендовані, або вводимо свої по 12-бальній системі важкості, де 12 - це найважч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7"/>
          <p:cNvSpPr/>
          <p:nvPr/>
        </p:nvSpPr>
        <p:spPr>
          <a:xfrm>
            <a:off x="2878920" y="0"/>
            <a:ext cx="5514840" cy="1251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Створення розкла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  <a:ea typeface="Arial"/>
              </a:rPr>
              <a:t>автоматич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rcRect l="0" t="0" r="0" b="23693"/>
          <a:stretch/>
        </p:blipFill>
        <p:spPr>
          <a:xfrm>
            <a:off x="142920" y="1643040"/>
            <a:ext cx="2386080" cy="1857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Z:\Селезнев А. С\Скрины\4\расписание.png"/>
          <p:cNvPicPr/>
          <p:nvPr/>
        </p:nvPicPr>
        <p:blipFill>
          <a:blip r:embed="rId3"/>
          <a:stretch/>
        </p:blipFill>
        <p:spPr>
          <a:xfrm>
            <a:off x="3541680" y="1571760"/>
            <a:ext cx="5173560" cy="376380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71280" y="3822840"/>
            <a:ext cx="8964720" cy="265428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втоматичне створення розкладу. В закладці “Розклад” вибираємо “Основне” та натискаємо “Автоскладання”. Натискаємо “Да” в віконці “Підтвердження” – розклад створиться автоматично з видаленням  уроків, виставлених в розклад раніше в ручному режимі чи автоматично. Натискаємо ”Нет” в віконці “Підтвердження” – розклад створиться автоматично, без видалення виставлених урок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Z:\Селезнев А. С\Скрины\4\Расписание2.JPG"/>
          <p:cNvPicPr/>
          <p:nvPr/>
        </p:nvPicPr>
        <p:blipFill>
          <a:blip r:embed="rId4"/>
          <a:stretch/>
        </p:blipFill>
        <p:spPr>
          <a:xfrm>
            <a:off x="1258920" y="2781360"/>
            <a:ext cx="2000160" cy="90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25:32Z</dcterms:created>
  <dc:creator/>
  <dc:description/>
  <dc:language>en-US</dc:language>
  <cp:lastModifiedBy/>
  <dcterms:modified xsi:type="dcterms:W3CDTF">2011-10-11T13:43:37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619990</vt:lpwstr>
  </property>
</Properties>
</file>