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12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30.png" ContentType="image/png"/>
  <Override PartName="/ppt/media/image4.png" ContentType="image/png"/>
  <Override PartName="/ppt/media/image13.png" ContentType="image/png"/>
  <Override PartName="/ppt/media/image31.jpeg" ContentType="image/jpeg"/>
  <Override PartName="/ppt/media/image25.jpeg" ContentType="image/jpeg"/>
  <Override PartName="/ppt/media/image3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18AA-DE6C-4A21-A3D7-2041334BE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62A3-D85C-411C-8168-63DD892A2A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7F3-0235-4794-BFE0-1C97A57C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8E7-B12F-4FBA-BFED-4AB233A1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BB3-0837-459F-AAEF-ED516D2C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C89-7B50-46E8-A326-B2D47CA2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453-1CE0-4FC1-B531-D675757D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348-30FC-4340-B469-6D10F48B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8635-0838-47E6-96F6-01418532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7C4-F09D-47AA-A4B5-09D6A853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B5D-A6CE-4CF4-92FC-A82E4BD8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418-7F0A-4CB2-BEAC-BA625979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CC0-8B5E-4761-BFC8-D28CCD18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EC9-69DF-44F6-A180-9334BDD7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91BB-781A-46C2-B314-4E6C238DA0D4}" type="slidenum">
              <a:rPr b="0" lang="en-US" sz="12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52" name="Rectangle 6" descr=""/>
            <p:cNvPicPr/>
            <p:nvPr/>
          </p:nvPicPr>
          <p:blipFill>
            <a:blip r:embed="rId3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4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9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grpSp>
          <p:nvGrpSpPr>
            <p:cNvPr id="101" name="Rectangle 17"/>
            <p:cNvGrpSpPr/>
            <p:nvPr/>
          </p:nvGrpSpPr>
          <p:grpSpPr>
            <a:xfrm>
              <a:off x="-1440" y="377640"/>
              <a:ext cx="9145440" cy="6108480"/>
              <a:chOff x="-1440" y="377640"/>
              <a:chExt cx="9145440" cy="6108480"/>
            </a:xfrm>
          </p:grpSpPr>
          <p:pic>
            <p:nvPicPr>
              <p:cNvPr id="102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-1440" y="377640"/>
                <a:ext cx="9145440" cy="610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4320" y="380520"/>
                <a:ext cx="9133560" cy="609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Rectangle 9"/>
            <p:cNvSpPr/>
            <p:nvPr/>
          </p:nvSpPr>
          <p:spPr>
            <a:xfrm>
              <a:off x="2880" y="0"/>
              <a:ext cx="913356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2880" y="6553440"/>
              <a:ext cx="913356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15"/>
            <p:cNvSpPr/>
            <p:nvPr/>
          </p:nvSpPr>
          <p:spPr>
            <a:xfrm>
              <a:off x="2880" y="380880"/>
              <a:ext cx="913356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16"/>
            <p:cNvSpPr/>
            <p:nvPr/>
          </p:nvSpPr>
          <p:spPr>
            <a:xfrm>
              <a:off x="2880" y="6477120"/>
              <a:ext cx="913356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429680" y="500040"/>
            <a:ext cx="1665000" cy="1639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142920" y="50004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819800" y="928800"/>
            <a:ext cx="564588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ТОВ НОВІ ЗНА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571680" y="278604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Навчальний посіб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143080" y="4098960"/>
            <a:ext cx="43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Семінар №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0"/>
          <p:cNvSpPr/>
          <p:nvPr/>
        </p:nvSpPr>
        <p:spPr>
          <a:xfrm>
            <a:off x="4429080" y="2286000"/>
            <a:ext cx="4500720" cy="30200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завантаження даних навчального закладу на портал  зайдіть в програму КУРС: Сайт, яка знаходиться  в панелі задач (правий нижній кут), або запустіть ярлик КУРС: Сайт, якщо програма ще не запуще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446040" y="1857240"/>
            <a:ext cx="3624480" cy="4143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6"/>
          <p:cNvSpPr/>
          <p:nvPr/>
        </p:nvSpPr>
        <p:spPr>
          <a:xfrm>
            <a:off x="2805120" y="0"/>
            <a:ext cx="577224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Завантаження даних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на порт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"/>
          <p:cNvSpPr/>
          <p:nvPr/>
        </p:nvSpPr>
        <p:spPr>
          <a:xfrm>
            <a:off x="2960640" y="0"/>
            <a:ext cx="577224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Завантаження даних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на порта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1285920" y="1571760"/>
            <a:ext cx="3214800" cy="3987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3"/>
          <a:srcRect l="0" t="0" r="0" b="37865"/>
          <a:stretch/>
        </p:blipFill>
        <p:spPr>
          <a:xfrm>
            <a:off x="4414680" y="2214720"/>
            <a:ext cx="3657600" cy="28191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0"/>
          <p:cNvSpPr/>
          <p:nvPr/>
        </p:nvSpPr>
        <p:spPr>
          <a:xfrm>
            <a:off x="642960" y="5286240"/>
            <a:ext cx="8001000" cy="11912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завантаження даних на портал необхідно в програмі КУРС: Сайт натиснути “Загрузить все” та зачекати коли закінчиться завантаженн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2696760" y="214200"/>
            <a:ext cx="64414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Робота на порталі ІСУ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1071720" y="4929120"/>
            <a:ext cx="700056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аші дані вже згружені на портал ІСУ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заходження на портал необхідно перейти в браузері  за адресу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www.isuo.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а знайти свій навчальний закл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Z:\Селезнев А. С\Скрины\2\1.JPG"/>
          <p:cNvPicPr/>
          <p:nvPr/>
        </p:nvPicPr>
        <p:blipFill>
          <a:blip r:embed="rId2"/>
          <a:stretch/>
        </p:blipFill>
        <p:spPr>
          <a:xfrm>
            <a:off x="1928880" y="1571760"/>
            <a:ext cx="5214960" cy="33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7"/>
          <p:cNvSpPr/>
          <p:nvPr/>
        </p:nvSpPr>
        <p:spPr>
          <a:xfrm>
            <a:off x="3064680" y="214200"/>
            <a:ext cx="493704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Робота на портал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642960" y="4929120"/>
            <a:ext cx="792972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находите свій навчальний заклад та вводите Логін та Пароль, який треба отримати у куратора. Авторизувавшись, ви отримаєте права для детального огляду даних своєї школи на порталі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Z:\Селезнев А. С\Скрины\2\2.JPG"/>
          <p:cNvPicPr/>
          <p:nvPr/>
        </p:nvPicPr>
        <p:blipFill>
          <a:blip r:embed="rId2"/>
          <a:stretch/>
        </p:blipFill>
        <p:spPr>
          <a:xfrm>
            <a:off x="1643040" y="1571760"/>
            <a:ext cx="5926320" cy="32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7"/>
          <p:cNvSpPr/>
          <p:nvPr/>
        </p:nvSpPr>
        <p:spPr>
          <a:xfrm>
            <a:off x="3064680" y="214200"/>
            <a:ext cx="493704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Робота на портал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428760" y="4929120"/>
            <a:ext cx="850104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и заходженні на сторінку своєї школи, необхідно перевірити відправлені дані. В закладці “Звіти” треба перевірити відправлення звіту та прийняття його своїм керівницт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Z:\Селезнев А. С\Скрины\2\3.JPG"/>
          <p:cNvPicPr/>
          <p:nvPr/>
        </p:nvPicPr>
        <p:blipFill>
          <a:blip r:embed="rId2"/>
          <a:stretch/>
        </p:blipFill>
        <p:spPr>
          <a:xfrm>
            <a:off x="1185840" y="1571760"/>
            <a:ext cx="4386240" cy="3286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Z:\Селезнев А. С\Скрины\2\4.JPG"/>
          <p:cNvPicPr/>
          <p:nvPr/>
        </p:nvPicPr>
        <p:blipFill>
          <a:blip r:embed="rId3"/>
          <a:stretch/>
        </p:blipFill>
        <p:spPr>
          <a:xfrm>
            <a:off x="5114880" y="2357280"/>
            <a:ext cx="2743200" cy="23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7"/>
          <p:cNvSpPr/>
          <p:nvPr/>
        </p:nvSpPr>
        <p:spPr>
          <a:xfrm>
            <a:off x="3064680" y="214200"/>
            <a:ext cx="493704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Робота на портал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10"/>
          <p:cNvSpPr/>
          <p:nvPr/>
        </p:nvSpPr>
        <p:spPr>
          <a:xfrm>
            <a:off x="857160" y="5214960"/>
            <a:ext cx="7500960" cy="11912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 порталі можна користуватися функцією “Пошук”, для відображення необхідних вам даних по навчальному заклад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Группа 11"/>
          <p:cNvGrpSpPr/>
          <p:nvPr/>
        </p:nvGrpSpPr>
        <p:grpSpPr>
          <a:xfrm>
            <a:off x="1785960" y="1571760"/>
            <a:ext cx="5357880" cy="3500280"/>
            <a:chOff x="1785960" y="1571760"/>
            <a:chExt cx="5357880" cy="3500280"/>
          </a:xfrm>
        </p:grpSpPr>
        <p:pic>
          <p:nvPicPr>
            <p:cNvPr id="242" name="Picture 5" descr="Z:\Селезнев А. С\Скрины\2\5.JPG"/>
            <p:cNvPicPr/>
            <p:nvPr/>
          </p:nvPicPr>
          <p:blipFill>
            <a:blip r:embed="rId2"/>
            <a:srcRect l="0" t="0" r="129" b="0"/>
            <a:stretch/>
          </p:blipFill>
          <p:spPr>
            <a:xfrm>
              <a:off x="1785960" y="1571760"/>
              <a:ext cx="5357880" cy="35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3" descr="Z:\Селезнев А. С\Скрины\2\6.JPG"/>
            <p:cNvPicPr/>
            <p:nvPr/>
          </p:nvPicPr>
          <p:blipFill>
            <a:blip r:embed="rId3"/>
            <a:srcRect l="0" t="0" r="51066" b="76622"/>
            <a:stretch/>
          </p:blipFill>
          <p:spPr>
            <a:xfrm>
              <a:off x="3692160" y="2337840"/>
              <a:ext cx="3033000" cy="983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46" name="TextBox 7"/>
          <p:cNvSpPr/>
          <p:nvPr/>
        </p:nvSpPr>
        <p:spPr>
          <a:xfrm>
            <a:off x="253008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00040" y="1785960"/>
            <a:ext cx="8501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Рекомендовані терміни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 робочі дн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: Персональні дані школи з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’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явились на портал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Співробітники, учні, клас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приміщення – стоять нулі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Продовження в  §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578592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Дякуємо за співпрацю!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67768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1214280" y="1571760"/>
            <a:ext cx="62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ТОВ НОВІ ЗНАН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1857240" y="2428920"/>
            <a:ext cx="52149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хнічна підтрим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: +38 (057) 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7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об:+38(050) 203-44-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+38(097) 678-76-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+38(063) 590-35-00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E-mail:  info@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yr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642960" y="3571920"/>
            <a:ext cx="1508040" cy="1670040"/>
          </a:xfrm>
          <a:prstGeom prst="rect">
            <a:avLst/>
          </a:prstGeom>
          <a:ln w="0">
            <a:noFill/>
          </a:ln>
        </p:spPr>
      </p:pic>
      <p:pic>
        <p:nvPicPr>
          <p:cNvPr id="255" name="Рисунок 10" descr="RK.jpg"/>
          <p:cNvPicPr/>
          <p:nvPr/>
        </p:nvPicPr>
        <p:blipFill>
          <a:blip r:embed="rId3"/>
          <a:stretch/>
        </p:blipFill>
        <p:spPr>
          <a:xfrm>
            <a:off x="6735600" y="3571920"/>
            <a:ext cx="219420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67768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785880" y="1714680"/>
            <a:ext cx="76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2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Базові налаштуван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785880" y="2857680"/>
            <a:ext cx="8072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лаштування  Ролі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чищення Б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лаштування довідни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вантаження на порт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 на портал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8"/>
          <p:cNvSpPr/>
          <p:nvPr/>
        </p:nvSpPr>
        <p:spPr>
          <a:xfrm>
            <a:off x="3519000" y="285840"/>
            <a:ext cx="45424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Запуск прогр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3114720" y="1623960"/>
            <a:ext cx="5315040" cy="4019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500040" y="2033640"/>
            <a:ext cx="2989440" cy="27525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571680" y="4929120"/>
            <a:ext cx="821520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входу в програму використовуємо стандартні Логін: 1111 і Пароль 1111, для ролі Директор школи. Після виконання входу в програму, потрібно змінити стандартні логін та парол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а створити нові рол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3076920" y="285840"/>
            <a:ext cx="53380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Налаштування Рол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Z:\Селезнев А. С\Скрины\2\8.JPG"/>
          <p:cNvPicPr/>
          <p:nvPr/>
        </p:nvPicPr>
        <p:blipFill>
          <a:blip r:embed="rId2"/>
          <a:stretch/>
        </p:blipFill>
        <p:spPr>
          <a:xfrm>
            <a:off x="4714920" y="1643040"/>
            <a:ext cx="4152960" cy="4429080"/>
          </a:xfrm>
          <a:prstGeom prst="rect">
            <a:avLst/>
          </a:prstGeom>
          <a:ln w="0">
            <a:noFill/>
          </a:ln>
        </p:spPr>
      </p:pic>
      <p:sp>
        <p:nvSpPr>
          <p:cNvPr id="174" name="TextBox 9"/>
          <p:cNvSpPr/>
          <p:nvPr/>
        </p:nvSpPr>
        <p:spPr>
          <a:xfrm>
            <a:off x="5000760" y="3429000"/>
            <a:ext cx="34290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боронено видаляти всіх користувач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Z:\Селезнев А. С\Скрины\2\7.JPG"/>
          <p:cNvPicPr/>
          <p:nvPr/>
        </p:nvPicPr>
        <p:blipFill>
          <a:blip r:embed="rId3"/>
          <a:stretch/>
        </p:blipFill>
        <p:spPr>
          <a:xfrm>
            <a:off x="142920" y="1571760"/>
            <a:ext cx="5024520" cy="17143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0"/>
          <p:cNvSpPr/>
          <p:nvPr/>
        </p:nvSpPr>
        <p:spPr>
          <a:xfrm>
            <a:off x="142920" y="3298680"/>
            <a:ext cx="4786200" cy="33858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створення користувачів, ролей та їх налаштування заходимо в “Менеджер користувачів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ожна відредагувати існуючих користувачів , або створити нових, вказавши їх властивості: Логін, Пароль та обрати його Роль. Натиснути “Створит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3076920" y="285840"/>
            <a:ext cx="53380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Налаштування Ролі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5357880" y="1857240"/>
            <a:ext cx="3571920" cy="411732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створення ролей та їх редагування заходимо в закладку “Ролі”. Редагуємо права існуючих ролей та виставляємо галочки. Для створення нової ролі  натискаємо кнопку “Плюс” та виставляємо  права для нової рол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Z:\Селезнев А. С\Скрины\2\9.JPG"/>
          <p:cNvPicPr/>
          <p:nvPr/>
        </p:nvPicPr>
        <p:blipFill>
          <a:blip r:embed="rId2"/>
          <a:stretch/>
        </p:blipFill>
        <p:spPr>
          <a:xfrm>
            <a:off x="357120" y="1571760"/>
            <a:ext cx="478656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Users\Veter\Desktop\Безымянный.png"/>
          <p:cNvPicPr/>
          <p:nvPr/>
        </p:nvPicPr>
        <p:blipFill>
          <a:blip r:embed="rId1"/>
          <a:stretch/>
        </p:blipFill>
        <p:spPr>
          <a:xfrm>
            <a:off x="357120" y="2500200"/>
            <a:ext cx="3286080" cy="20797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7"/>
          <p:cNvSpPr/>
          <p:nvPr/>
        </p:nvSpPr>
        <p:spPr>
          <a:xfrm>
            <a:off x="3315240" y="214200"/>
            <a:ext cx="381384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Очищення Б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0"/>
          <p:cNvSpPr/>
          <p:nvPr/>
        </p:nvSpPr>
        <p:spPr>
          <a:xfrm>
            <a:off x="324000" y="4653000"/>
            <a:ext cx="856908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сля роботи з  тестовою базою заходимо в “Очищення бази” та виставляємо галочки перед тими даними, які хочете видалити з  тестової бази (обов’язково видаляти всі дані). Натискаємо “Очистити” та вибираємо підтвердження очищення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3"/>
          <a:stretch/>
        </p:blipFill>
        <p:spPr>
          <a:xfrm>
            <a:off x="3071880" y="1571760"/>
            <a:ext cx="4357800" cy="1858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4"/>
          <a:stretch/>
        </p:blipFill>
        <p:spPr>
          <a:xfrm>
            <a:off x="3924360" y="3284640"/>
            <a:ext cx="2933640" cy="1199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5"/>
          <a:stretch/>
        </p:blipFill>
        <p:spPr>
          <a:xfrm>
            <a:off x="6804000" y="3500280"/>
            <a:ext cx="199080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7"/>
          <p:cNvSpPr/>
          <p:nvPr/>
        </p:nvSpPr>
        <p:spPr>
          <a:xfrm>
            <a:off x="2139840" y="285840"/>
            <a:ext cx="68770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Налаштування довідник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876240" y="1571760"/>
            <a:ext cx="2552760" cy="17049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10"/>
          <p:cNvSpPr/>
          <p:nvPr/>
        </p:nvSpPr>
        <p:spPr>
          <a:xfrm>
            <a:off x="285840" y="3357720"/>
            <a:ext cx="4286160" cy="33858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бов’язково налаштуйте довідники під індивідуальні особливості  Вашої школи. Для цього заходимо в “Списки” розділ Довідники. Обираємо  Паралелі, які є в вашій школі, та вводимо літери які використовуються для найменування кла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Z:\Селезнев А. С\Скрины\2\11.JPG"/>
          <p:cNvPicPr/>
          <p:nvPr/>
        </p:nvPicPr>
        <p:blipFill>
          <a:blip r:embed="rId3"/>
          <a:stretch/>
        </p:blipFill>
        <p:spPr>
          <a:xfrm>
            <a:off x="4857840" y="1633680"/>
            <a:ext cx="4071960" cy="48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7"/>
          <p:cNvSpPr/>
          <p:nvPr/>
        </p:nvSpPr>
        <p:spPr>
          <a:xfrm>
            <a:off x="2042280" y="285840"/>
            <a:ext cx="68770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Налаштування довідник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2" descr="C:\Users\Veter\Desktop\Безымянный1.png"/>
          <p:cNvPicPr/>
          <p:nvPr/>
        </p:nvPicPr>
        <p:blipFill>
          <a:blip r:embed="rId2"/>
          <a:stretch/>
        </p:blipFill>
        <p:spPr>
          <a:xfrm>
            <a:off x="571680" y="1647720"/>
            <a:ext cx="3357360" cy="2793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Veter\Desktop\Безымянный.png"/>
          <p:cNvPicPr/>
          <p:nvPr/>
        </p:nvPicPr>
        <p:blipFill>
          <a:blip r:embed="rId3"/>
          <a:stretch/>
        </p:blipFill>
        <p:spPr>
          <a:xfrm>
            <a:off x="5132520" y="1643040"/>
            <a:ext cx="3297240" cy="27860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8"/>
          <p:cNvSpPr/>
          <p:nvPr/>
        </p:nvSpPr>
        <p:spPr>
          <a:xfrm>
            <a:off x="4643280" y="4508640"/>
            <a:ext cx="428652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еревірте Країну, Регіон, Район області, якщо необхідно введі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селений пункт і Вулицю, після введення вище да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250920" y="4508640"/>
            <a:ext cx="417816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бираємо кількість змін та вказуєм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їх найменування , після цього редагуємо розклад змін, вказуючи уроки для кожної змі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2028600" y="285840"/>
            <a:ext cx="68770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Налаштування довідникі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179280" y="4221000"/>
            <a:ext cx="428652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ставляємо Посади, Звання, Кваліфікацію та добавляємо за необхідністю Посаду і куди вона Належи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C:\Users\Veter\Desktop\Безымянный2.png"/>
          <p:cNvPicPr/>
          <p:nvPr/>
        </p:nvPicPr>
        <p:blipFill>
          <a:blip r:embed="rId2"/>
          <a:stretch/>
        </p:blipFill>
        <p:spPr>
          <a:xfrm>
            <a:off x="839880" y="1571760"/>
            <a:ext cx="3017880" cy="2523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Veter\Desktop\Безымянный.png"/>
          <p:cNvPicPr/>
          <p:nvPr/>
        </p:nvPicPr>
        <p:blipFill>
          <a:blip r:embed="rId3"/>
          <a:stretch/>
        </p:blipFill>
        <p:spPr>
          <a:xfrm>
            <a:off x="5214960" y="1569960"/>
            <a:ext cx="3000240" cy="25243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4643280" y="4214880"/>
            <a:ext cx="4286520" cy="228852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ставляємо  Винагороди, Почесні звання та Внутрішні типи, за необхідністю добавляємо Внутрішні типи, які використовуються в школ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25:32Z</dcterms:created>
  <dc:creator/>
  <dc:description/>
  <dc:language>en-US</dc:language>
  <cp:lastModifiedBy/>
  <dcterms:modified xsi:type="dcterms:W3CDTF">2011-10-11T13:43:07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619990</vt:lpwstr>
  </property>
</Properties>
</file>