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5.png" ContentType="image/png"/>
  <Override PartName="/ppt/media/image19.jpeg" ContentType="image/jpe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3231-B6A0-4E2C-AF4B-DDE065659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ADB2-4B5E-4E6A-95FA-E4694FCCFC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BF68-089C-4EA1-8CEB-A101D7827A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391-639E-4CA5-B310-DC7C00F3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121-FD66-4160-95FF-4A98A941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0BE-5143-4A44-B54C-F0F195CD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1292-4EA4-449E-8499-176D5F4C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FE4-3F7F-479D-9020-BD3CC649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2E0-26D5-45D8-A0B4-C12749B5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E181-2F89-4F43-B28C-CE46489B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DB43-706E-47E0-A694-B76D3CC7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DCD-D031-4D88-966E-BD843921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3BC-2B00-4F8A-99C9-84470B64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703-B98A-4CAF-BDD0-708CBB37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BF1-6D43-414C-B8DC-DDCADA8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4EB0-61FB-48A5-B5E4-915D0F0D9354}" type="slidenum">
              <a:rPr b="0" lang="en-US" sz="12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47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8"/>
          <p:cNvGrpSpPr/>
          <p:nvPr/>
        </p:nvGrpSpPr>
        <p:grpSpPr>
          <a:xfrm>
            <a:off x="-1440" y="0"/>
            <a:ext cx="9144000" cy="6858000"/>
            <a:chOff x="-1440" y="0"/>
            <a:chExt cx="9144000" cy="6858000"/>
          </a:xfrm>
        </p:grpSpPr>
        <p:pic>
          <p:nvPicPr>
            <p:cNvPr id="52" name="Rectangle 6" descr=""/>
            <p:cNvPicPr/>
            <p:nvPr/>
          </p:nvPicPr>
          <p:blipFill>
            <a:blip r:embed="rId3">
              <a:lum bright="-10000"/>
            </a:blip>
            <a:stretch/>
          </p:blipFill>
          <p:spPr>
            <a:xfrm>
              <a:off x="-1440" y="380880"/>
              <a:ext cx="9144000" cy="60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-1440" y="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-1440" y="6553440"/>
              <a:ext cx="914400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14"/>
            <p:cNvSpPr/>
            <p:nvPr/>
          </p:nvSpPr>
          <p:spPr>
            <a:xfrm>
              <a:off x="-1440" y="38088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16"/>
            <p:cNvSpPr/>
            <p:nvPr/>
          </p:nvSpPr>
          <p:spPr>
            <a:xfrm>
              <a:off x="-1440" y="647712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16d"/>
            </a:gs>
            <a:gs pos="100000">
              <a:srgbClr val="637fbe">
                <a:alpha val="50196"/>
              </a:srgbClr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3"/>
          <p:cNvGrpSpPr/>
          <p:nvPr/>
        </p:nvGrpSpPr>
        <p:grpSpPr>
          <a:xfrm>
            <a:off x="0" y="0"/>
            <a:ext cx="9144000" cy="1506600"/>
            <a:chOff x="0" y="0"/>
            <a:chExt cx="9144000" cy="1506600"/>
          </a:xfrm>
        </p:grpSpPr>
        <p:pic>
          <p:nvPicPr>
            <p:cNvPr id="96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9"/>
            <p:cNvSpPr/>
            <p:nvPr/>
          </p:nvSpPr>
          <p:spPr>
            <a:xfrm>
              <a:off x="0" y="0"/>
              <a:ext cx="9144000" cy="1447920"/>
            </a:xfrm>
            <a:prstGeom prst="rect">
              <a:avLst/>
            </a:prstGeom>
            <a:gradFill rotWithShape="0">
              <a:gsLst>
                <a:gs pos="0">
                  <a:srgbClr val="4f81bd">
                    <a:alpha val="0"/>
                  </a:srgbClr>
                </a:gs>
                <a:gs pos="100000">
                  <a:srgbClr val="e9edf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7"/>
            <p:cNvSpPr/>
            <p:nvPr/>
          </p:nvSpPr>
          <p:spPr>
            <a:xfrm>
              <a:off x="0" y="1428840"/>
              <a:ext cx="914400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8"/>
            <p:cNvSpPr/>
            <p:nvPr/>
          </p:nvSpPr>
          <p:spPr>
            <a:xfrm>
              <a:off x="0" y="1505160"/>
              <a:ext cx="9144000" cy="14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8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grpSp>
          <p:nvGrpSpPr>
            <p:cNvPr id="101" name="Rectangle 17"/>
            <p:cNvGrpSpPr/>
            <p:nvPr/>
          </p:nvGrpSpPr>
          <p:grpSpPr>
            <a:xfrm>
              <a:off x="-1440" y="377640"/>
              <a:ext cx="9145440" cy="6108480"/>
              <a:chOff x="-1440" y="377640"/>
              <a:chExt cx="9145440" cy="6108480"/>
            </a:xfrm>
          </p:grpSpPr>
          <p:pic>
            <p:nvPicPr>
              <p:cNvPr id="102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-1440" y="377640"/>
                <a:ext cx="9145440" cy="61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4320" y="380520"/>
                <a:ext cx="9133560" cy="609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Rectangle 9"/>
            <p:cNvSpPr/>
            <p:nvPr/>
          </p:nvSpPr>
          <p:spPr>
            <a:xfrm>
              <a:off x="2880" y="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2880" y="6553440"/>
              <a:ext cx="9133560" cy="30456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15"/>
            <p:cNvSpPr/>
            <p:nvPr/>
          </p:nvSpPr>
          <p:spPr>
            <a:xfrm>
              <a:off x="2880" y="38088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16"/>
            <p:cNvSpPr/>
            <p:nvPr/>
          </p:nvSpPr>
          <p:spPr>
            <a:xfrm>
              <a:off x="2880" y="6477120"/>
              <a:ext cx="9133560" cy="1440"/>
            </a:xfrm>
            <a:prstGeom prst="line">
              <a:avLst/>
            </a:prstGeom>
            <a:ln w="38160">
              <a:solidFill>
                <a:srgbClr val="4471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hyperlink" Target="http://www.isuo.org/" TargetMode="External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hyperlink" Target="http://www.ekyrs.org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429680" y="500040"/>
            <a:ext cx="1665000" cy="1639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2"/>
          <a:stretch/>
        </p:blipFill>
        <p:spPr>
          <a:xfrm>
            <a:off x="142920" y="50004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684800" y="928800"/>
            <a:ext cx="564588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ТОВ НОВІ ЗНАНН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571680" y="278604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Навчальний посіб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143080" y="4098960"/>
            <a:ext cx="43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Семінар №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14" name="TextBox 8"/>
          <p:cNvSpPr/>
          <p:nvPr/>
        </p:nvSpPr>
        <p:spPr>
          <a:xfrm>
            <a:off x="3153960" y="0"/>
            <a:ext cx="545976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Установка прогр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КУРС: Сай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42920" y="1643040"/>
            <a:ext cx="3429000" cy="1658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2643120" y="2143080"/>
            <a:ext cx="3105360" cy="22860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357120" y="4788000"/>
            <a:ext cx="471492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встановлення прогр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УРС: Сайт запускаємо установочний фай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yrsSiteSvc_setup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" descr="Z:\Селезнев А. С\Скрины\1\1.JPG"/>
          <p:cNvPicPr/>
          <p:nvPr/>
        </p:nvPicPr>
        <p:blipFill>
          <a:blip r:embed="rId4"/>
          <a:stretch/>
        </p:blipFill>
        <p:spPr>
          <a:xfrm>
            <a:off x="5165640" y="2714760"/>
            <a:ext cx="3978360" cy="29289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3"/>
          <p:cNvSpPr/>
          <p:nvPr/>
        </p:nvSpPr>
        <p:spPr>
          <a:xfrm>
            <a:off x="5786280" y="1571760"/>
            <a:ext cx="3214800" cy="1008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ваг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становлювати КУРС: Сай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ІЛЬКИ на С:/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7"/>
          <p:cNvSpPr/>
          <p:nvPr/>
        </p:nvSpPr>
        <p:spPr>
          <a:xfrm>
            <a:off x="1972440" y="285840"/>
            <a:ext cx="72550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Налаштування КУРС: Сай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214200" y="4572000"/>
            <a:ext cx="8786880" cy="18003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і налаштування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дключенн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КУРС: Сайт це Имя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DBA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оль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key.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ле Сервер буде пусте, а напрямок підключення до бази даних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:/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УРС. Натисніть тест для перевірки з'єдна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УРС: Сайт почне працювати при підключенні до мережі Інтерн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857160" y="1549440"/>
            <a:ext cx="2244960" cy="29512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9"/>
          <p:cNvSpPr/>
          <p:nvPr/>
        </p:nvSpPr>
        <p:spPr>
          <a:xfrm>
            <a:off x="5357880" y="1643040"/>
            <a:ext cx="3429000" cy="1557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ваг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алаштування підключення до бази даних КУРС: Школа і КУРС: Сайт повинно бути однакови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3"/>
          <a:stretch/>
        </p:blipFill>
        <p:spPr>
          <a:xfrm>
            <a:off x="2857680" y="3000240"/>
            <a:ext cx="176184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>
            <a:off x="2800800" y="0"/>
            <a:ext cx="576936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Реєстраці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та отримання ключ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147600" y="1571760"/>
            <a:ext cx="4281480" cy="2143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4286160" y="2000160"/>
            <a:ext cx="4429080" cy="231624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0"/>
          <p:cNvSpPr/>
          <p:nvPr/>
        </p:nvSpPr>
        <p:spPr>
          <a:xfrm>
            <a:off x="285840" y="3714840"/>
            <a:ext cx="4500360" cy="30200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и наявності Інтернет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еєструємося на сайті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ekyrs.org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в закладці “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регистрироваться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” для отримання номера в системі. Номер в системі можете перевірити в закладц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ой профиль”.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5214960" y="4205160"/>
            <a:ext cx="364320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и відсутності Інтернет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реєстрації на сайті зверніться до куратора рай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2800800" y="0"/>
            <a:ext cx="576936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Реєстраці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та отримання ключ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395280" y="1571760"/>
            <a:ext cx="3071880" cy="3582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3"/>
          <a:stretch/>
        </p:blipFill>
        <p:spPr>
          <a:xfrm>
            <a:off x="5452920" y="1589040"/>
            <a:ext cx="3048120" cy="3554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4"/>
          <a:stretch/>
        </p:blipFill>
        <p:spPr>
          <a:xfrm>
            <a:off x="3348000" y="2349360"/>
            <a:ext cx="2236680" cy="12956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6"/>
          <p:cNvSpPr/>
          <p:nvPr/>
        </p:nvSpPr>
        <p:spPr>
          <a:xfrm>
            <a:off x="1357200" y="4500720"/>
            <a:ext cx="657252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отримання ключа відправляємо номер в системі та Ваш ідентифікатор куратор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отримання ключа уважно вводимо його в поле “Ваш ключ” та натискаємо кнопку “Применить ключ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8"/>
          <p:cNvSpPr/>
          <p:nvPr/>
        </p:nvSpPr>
        <p:spPr>
          <a:xfrm>
            <a:off x="3168000" y="0"/>
            <a:ext cx="558936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Внесення первинни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дани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115920" y="2143080"/>
            <a:ext cx="3027240" cy="2289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3"/>
          <a:stretch/>
        </p:blipFill>
        <p:spPr>
          <a:xfrm>
            <a:off x="3143160" y="2500200"/>
            <a:ext cx="2764080" cy="20894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10"/>
          <p:cNvSpPr/>
          <p:nvPr/>
        </p:nvSpPr>
        <p:spPr>
          <a:xfrm>
            <a:off x="214200" y="1571760"/>
            <a:ext cx="500076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ибираємо бажану мову інтерфейсу програми, а мову документів у програмі залишаємо українсь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214200" y="4572000"/>
            <a:ext cx="8786880" cy="183132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повнюємо  українською мовою персональні дані навчального закладу. Ця інформація буде відображатися на обласному порталі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isuo.org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та друкуватися в державних звіт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авила заповнення описані в інструкції, яка знаходиться в папці С:/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2" descr="Z:\Селезнев А. С\Скрины\1\3.JPG"/>
          <p:cNvPicPr/>
          <p:nvPr/>
        </p:nvPicPr>
        <p:blipFill>
          <a:blip r:embed="rId5"/>
          <a:stretch/>
        </p:blipFill>
        <p:spPr>
          <a:xfrm>
            <a:off x="5286240" y="1571760"/>
            <a:ext cx="357192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>
            <a:off x="3519000" y="285840"/>
            <a:ext cx="45424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Запуск прогр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114720" y="1623960"/>
            <a:ext cx="5315040" cy="4019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3"/>
          <a:stretch/>
        </p:blipFill>
        <p:spPr>
          <a:xfrm>
            <a:off x="500040" y="2033640"/>
            <a:ext cx="2989440" cy="27525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714240" y="4930920"/>
            <a:ext cx="792972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ля входу в програму використовуємо стандартні Логін 1111 і Пароль 1111, для ролі Директор школи. Після виконання входу в програму, ми зможемо побачити  тестову баз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7"/>
          <p:cNvSpPr/>
          <p:nvPr/>
        </p:nvSpPr>
        <p:spPr>
          <a:xfrm>
            <a:off x="253008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214200" y="2060640"/>
            <a:ext cx="8858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Рекомендовані терміни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 робочих дні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Контроль:  Школа отримала клю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Продовження навчання в §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5785920"/>
            <a:ext cx="77724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  <a:ea typeface="Arial"/>
              </a:rPr>
              <a:t>Дякуємо за співпрацю!</a:t>
            </a:r>
            <a:endParaRPr b="0" lang="en-US" sz="3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253008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1214280" y="1571760"/>
            <a:ext cx="628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ТОВ НОВІ ЗНАНН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857240" y="2428920"/>
            <a:ext cx="521496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хнічна підтрим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: +38 (057) 77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7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об:+38(050) 203-44-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97) 678-76-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+38(063) 590-35-00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E-mail:  info@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yrs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2"/>
          <a:stretch/>
        </p:blipFill>
        <p:spPr>
          <a:xfrm>
            <a:off x="642960" y="3571920"/>
            <a:ext cx="1508040" cy="16700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10" descr="RK.jpg"/>
          <p:cNvPicPr/>
          <p:nvPr/>
        </p:nvPicPr>
        <p:blipFill>
          <a:blip r:embed="rId3"/>
          <a:stretch/>
        </p:blipFill>
        <p:spPr>
          <a:xfrm>
            <a:off x="6735600" y="3571920"/>
            <a:ext cx="219420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530080" y="357120"/>
            <a:ext cx="6133320" cy="8251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  <a:ea typeface="Arial"/>
              </a:rPr>
              <a:t>Проект КУРС: Освіт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928800" y="1714680"/>
            <a:ext cx="72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§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ffffff"/>
                </a:solidFill>
                <a:latin typeface="Arial"/>
              </a:rPr>
              <a:t>1 Установка програ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785880" y="2643120"/>
            <a:ext cx="8072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з сайтом </a:t>
            </a:r>
            <a:r>
              <a:rPr b="1" lang="en-US" sz="3200" spc="-1" strike="noStrike">
                <a:solidFill>
                  <a:srgbClr val="fac090"/>
                </a:solidFill>
                <a:latin typeface="Arial"/>
              </a:rPr>
              <a:t>ekyrs.or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вантаження прогр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становка програ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УРС: Школ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b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d 2.1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, КУРС: Сай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еєстраці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истем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, отримання ключа, внесення первинних  дан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0"/>
          <p:cNvSpPr/>
          <p:nvPr/>
        </p:nvSpPr>
        <p:spPr>
          <a:xfrm>
            <a:off x="714240" y="3454560"/>
            <a:ext cx="8001000" cy="265428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еред встановленням програми КУРС: Школа призначте відповідальну особу та оберіть комп'юте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екомендації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винен бути зручний доступ до комп’ютера для відповідальної особ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вімкнений  більшу частину робочого час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ажана наявність Інтерн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2796840" y="0"/>
            <a:ext cx="545976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Установка прогр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КУРС: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" descr="C:\Users\Veter\Desktop\320px-Computer-aj_aj_ashton_01.svg.png"/>
          <p:cNvPicPr/>
          <p:nvPr/>
        </p:nvPicPr>
        <p:blipFill>
          <a:blip r:embed="rId2"/>
          <a:stretch/>
        </p:blipFill>
        <p:spPr>
          <a:xfrm>
            <a:off x="3143160" y="10000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3500280" y="1714680"/>
            <a:ext cx="5429520" cy="2768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7"/>
          <p:cNvSpPr/>
          <p:nvPr/>
        </p:nvSpPr>
        <p:spPr>
          <a:xfrm>
            <a:off x="2879280" y="285840"/>
            <a:ext cx="62128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Завантаження програ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3"/>
          <a:stretch/>
        </p:blipFill>
        <p:spPr>
          <a:xfrm>
            <a:off x="214200" y="1590840"/>
            <a:ext cx="3929040" cy="20523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0"/>
          <p:cNvSpPr/>
          <p:nvPr/>
        </p:nvSpPr>
        <p:spPr>
          <a:xfrm>
            <a:off x="71280" y="4643280"/>
            <a:ext cx="4286520" cy="192276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и наявності Інтернет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качуємо з сайту 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ekyrs.org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програ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КУРС: Школа та КУРС: Сайт (пункт меню “Завантажити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4500720" y="4643280"/>
            <a:ext cx="4500360" cy="1191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При відсутності Інтернет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Беремо установочні файли  у куратора райо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7"/>
          <p:cNvSpPr/>
          <p:nvPr/>
        </p:nvSpPr>
        <p:spPr>
          <a:xfrm>
            <a:off x="2879280" y="285840"/>
            <a:ext cx="6212880" cy="7642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</a:rPr>
              <a:t>Завантаження програ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571680" y="5286240"/>
            <a:ext cx="8072280" cy="119124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 обраний ком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ютер, на якому будуть встановлені програми(КУРС: Школа з базою даних і КУРС: Сай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берігаємо   установочні файли прогр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71280" y="1571760"/>
            <a:ext cx="2928960" cy="1931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3"/>
          <a:stretch/>
        </p:blipFill>
        <p:spPr>
          <a:xfrm>
            <a:off x="857160" y="2928960"/>
            <a:ext cx="2971800" cy="2314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4"/>
          <a:stretch/>
        </p:blipFill>
        <p:spPr>
          <a:xfrm>
            <a:off x="6143760" y="1571760"/>
            <a:ext cx="2928960" cy="193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5"/>
          <a:stretch/>
        </p:blipFill>
        <p:spPr>
          <a:xfrm>
            <a:off x="5332320" y="2928960"/>
            <a:ext cx="302580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7"/>
          <p:cNvSpPr/>
          <p:nvPr/>
        </p:nvSpPr>
        <p:spPr>
          <a:xfrm>
            <a:off x="2796840" y="0"/>
            <a:ext cx="545976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Установка прогр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КУРС: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2"/>
          <a:stretch/>
        </p:blipFill>
        <p:spPr>
          <a:xfrm>
            <a:off x="114480" y="1571760"/>
            <a:ext cx="5171760" cy="2162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4357800" y="2286000"/>
            <a:ext cx="4655880" cy="342900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0"/>
          <p:cNvSpPr/>
          <p:nvPr/>
        </p:nvSpPr>
        <p:spPr>
          <a:xfrm>
            <a:off x="250920" y="4573440"/>
            <a:ext cx="489276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пускаємо установочний файл КУРС: Школа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yrs_setup.exe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), та вибираємо варіант встановле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7"/>
          <p:cNvSpPr/>
          <p:nvPr/>
        </p:nvSpPr>
        <p:spPr>
          <a:xfrm>
            <a:off x="2725560" y="0"/>
            <a:ext cx="545976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Установка прогр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КУРС: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109440" y="1571760"/>
            <a:ext cx="3105360" cy="228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3"/>
          <a:stretch/>
        </p:blipFill>
        <p:spPr>
          <a:xfrm>
            <a:off x="2857680" y="1785960"/>
            <a:ext cx="3643200" cy="2682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4"/>
          <a:stretch/>
        </p:blipFill>
        <p:spPr>
          <a:xfrm>
            <a:off x="5483160" y="2071800"/>
            <a:ext cx="3589560" cy="26431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0"/>
          <p:cNvSpPr/>
          <p:nvPr/>
        </p:nvSpPr>
        <p:spPr>
          <a:xfrm>
            <a:off x="285840" y="4929120"/>
            <a:ext cx="8643960" cy="82548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риймаємо ліцензійну угоду та ознайомлюємося  з  правилами роботи в демо версії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3153960" y="0"/>
            <a:ext cx="545976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Установка прогр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КУРС: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9"/>
          <p:cNvSpPr/>
          <p:nvPr/>
        </p:nvSpPr>
        <p:spPr>
          <a:xfrm>
            <a:off x="5000760" y="1643040"/>
            <a:ext cx="3429000" cy="1282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ваг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ограма  КУРС: Школа встановлюється  ВИКЛЮЧНО в папку  С:/КУР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Z:\Селезнев А. С\Скрины\1\2.JPG"/>
          <p:cNvPicPr/>
          <p:nvPr/>
        </p:nvPicPr>
        <p:blipFill>
          <a:blip r:embed="rId2"/>
          <a:stretch/>
        </p:blipFill>
        <p:spPr>
          <a:xfrm>
            <a:off x="4572000" y="3143160"/>
            <a:ext cx="4478400" cy="3297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Z:\Селезнев А. С\Скрины\1\2.JPG"/>
          <p:cNvPicPr/>
          <p:nvPr/>
        </p:nvPicPr>
        <p:blipFill>
          <a:blip r:embed="rId3"/>
          <a:stretch/>
        </p:blipFill>
        <p:spPr>
          <a:xfrm>
            <a:off x="504720" y="1571760"/>
            <a:ext cx="4138560" cy="3047760"/>
          </a:xfrm>
          <a:prstGeom prst="rect">
            <a:avLst/>
          </a:prstGeom>
          <a:ln w="0">
            <a:noFill/>
          </a:ln>
        </p:spPr>
      </p:pic>
      <p:sp>
        <p:nvSpPr>
          <p:cNvPr id="203" name="TextBox 7"/>
          <p:cNvSpPr/>
          <p:nvPr/>
        </p:nvSpPr>
        <p:spPr>
          <a:xfrm>
            <a:off x="357120" y="4788000"/>
            <a:ext cx="407196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закінчення установки програ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УРС: Школа, встановлюємо програ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bird 2.1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6"/>
          <p:cNvSpPr/>
          <p:nvPr/>
        </p:nvSpPr>
        <p:spPr>
          <a:xfrm>
            <a:off x="6983280" y="6485040"/>
            <a:ext cx="216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www.ekyrs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tretch/>
        </p:blipFill>
        <p:spPr>
          <a:xfrm>
            <a:off x="0" y="-33480"/>
            <a:ext cx="2124000" cy="5335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8"/>
          <p:cNvSpPr/>
          <p:nvPr/>
        </p:nvSpPr>
        <p:spPr>
          <a:xfrm>
            <a:off x="3225600" y="0"/>
            <a:ext cx="5459760" cy="1434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Arial"/>
                <a:ea typeface="Arial"/>
              </a:rPr>
              <a:t>Установка прогр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Firebird 2.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2566800" cy="20001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6"/>
          <p:cNvSpPr/>
          <p:nvPr/>
        </p:nvSpPr>
        <p:spPr>
          <a:xfrm>
            <a:off x="142920" y="5000760"/>
            <a:ext cx="5429160" cy="155700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кщо на комп’ютері вже встановлена програм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ebird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, система  проінформує Вас про це і встановлювати  ще раз не потріб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2071800" y="2071800"/>
            <a:ext cx="3574800" cy="27860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1"/>
          <p:cNvSpPr/>
          <p:nvPr/>
        </p:nvSpPr>
        <p:spPr>
          <a:xfrm>
            <a:off x="5715000" y="1714680"/>
            <a:ext cx="3286080" cy="1282680"/>
          </a:xfrm>
          <a:prstGeom prst="rect">
            <a:avLst/>
          </a:prstGeom>
          <a:solidFill>
            <a:srgbClr val="46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Увага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становлюєм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rebird 2.1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на С: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gram Files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irebird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Firebird_2_1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4"/>
          <a:stretch/>
        </p:blipFill>
        <p:spPr>
          <a:xfrm>
            <a:off x="5572080" y="3143160"/>
            <a:ext cx="3357720" cy="261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5:25:32Z</dcterms:created>
  <dc:creator/>
  <dc:description/>
  <dc:language>en-US</dc:language>
  <cp:lastModifiedBy/>
  <dcterms:modified xsi:type="dcterms:W3CDTF">2011-10-11T13:42:54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619990</vt:lpwstr>
  </property>
</Properties>
</file>